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wmf" ContentType="image/x-wmf"/>
  <Override PartName="/ppt/media/image9.wmf" ContentType="image/x-wmf"/>
  <Override PartName="/ppt/media/image11.wmf" ContentType="image/x-wmf"/>
  <Override PartName="/ppt/media/image6.wmf" ContentType="image/x-wmf"/>
  <Override PartName="/ppt/media/image13.wmf" ContentType="image/x-wmf"/>
  <Override PartName="/ppt/media/image8.wmf" ContentType="image/x-wmf"/>
  <Override PartName="/ppt/media/image5.gif" ContentType="image/gif"/>
  <Override PartName="/ppt/media/image16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3.jpeg" ContentType="image/jpeg"/>
  <Override PartName="/ppt/media/image17.wmf" ContentType="image/x-wmf"/>
  <Override PartName="/ppt/media/image14.wmf" ContentType="image/x-wmf"/>
  <Override PartName="/ppt/media/image2.wmf" ContentType="image/x-wmf"/>
  <Override PartName="/ppt/media/image1.jpeg" ContentType="image/jpeg"/>
  <Override PartName="/ppt/media/image15.wmf" ContentType="image/x-wmf"/>
  <Override PartName="/ppt/media/image4.gif" ContentType="image/gi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150560" y="366840"/>
            <a:ext cx="7792920" cy="359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150560" y="366840"/>
            <a:ext cx="7792920" cy="359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4129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4129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8352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8352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7621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3049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0954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380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50021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50021"/>
                </a:solidFill>
                <a:latin typeface="Tahoma"/>
              </a:rPr>
              <a:t>Nov. 3,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276360" y="6243480"/>
            <a:ext cx="5715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50021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50021"/>
                </a:solidFill>
                <a:latin typeface="Tahoma"/>
              </a:rPr>
              <a:t>Motorola Labs, UIUC, UC Davis                                       </a:t>
            </a:r>
            <a:fld id="{3D9C79CD-37F8-48D1-B3D8-1847D5981E85}" type="slidenum">
              <a:rPr b="0" lang="en-US" sz="1400" spc="-1" strike="noStrike">
                <a:solidFill>
                  <a:srgbClr val="a50021"/>
                </a:solidFill>
                <a:latin typeface="Tahoma"/>
              </a:rPr>
              <a:t>&lt;number&gt;</a:t>
            </a:fld>
            <a:r>
              <a:rPr b="0" lang="en-US" sz="1400" spc="-1" strike="noStrike">
                <a:solidFill>
                  <a:srgbClr val="a50021"/>
                </a:solidFill>
                <a:latin typeface="Tahoma"/>
              </a:rPr>
              <a:t>/2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1752480"/>
            <a:ext cx="9009000" cy="1052640"/>
            <a:chOff x="0" y="1752480"/>
            <a:chExt cx="9009000" cy="1052640"/>
          </a:xfrm>
        </p:grpSpPr>
        <p:grpSp>
          <p:nvGrpSpPr>
            <p:cNvPr id="48" name=""/>
            <p:cNvGrpSpPr/>
            <p:nvPr/>
          </p:nvGrpSpPr>
          <p:grpSpPr>
            <a:xfrm>
              <a:off x="290520" y="1860480"/>
              <a:ext cx="711360" cy="474840"/>
              <a:chOff x="290520" y="1860480"/>
              <a:chExt cx="711360" cy="474840"/>
            </a:xfrm>
          </p:grpSpPr>
          <p:sp>
            <p:nvSpPr>
              <p:cNvPr id="49" name=""/>
              <p:cNvSpPr/>
              <p:nvPr/>
            </p:nvSpPr>
            <p:spPr>
              <a:xfrm>
                <a:off x="290520" y="18604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73560" y="18604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" name=""/>
            <p:cNvGrpSpPr/>
            <p:nvPr/>
          </p:nvGrpSpPr>
          <p:grpSpPr>
            <a:xfrm>
              <a:off x="414360" y="2282760"/>
              <a:ext cx="737640" cy="474840"/>
              <a:chOff x="414360" y="2282760"/>
              <a:chExt cx="737640" cy="474840"/>
            </a:xfrm>
          </p:grpSpPr>
          <p:sp>
            <p:nvSpPr>
              <p:cNvPr id="52" name=""/>
              <p:cNvSpPr/>
              <p:nvPr/>
            </p:nvSpPr>
            <p:spPr>
              <a:xfrm>
                <a:off x="414360" y="22827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83000" y="22827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" name=""/>
            <p:cNvSpPr/>
            <p:nvPr/>
          </p:nvSpPr>
          <p:spPr>
            <a:xfrm>
              <a:off x="0" y="22096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35040" y="17524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16080" y="25747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0666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oleObject" Target="../embeddings/oleObject1.bin"/><Relationship Id="rId7" Type="http://schemas.openxmlformats.org/officeDocument/2006/relationships/image" Target="../media/image7.wmf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1.jpeg"/><Relationship Id="rId1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1.jpeg"/><Relationship Id="rId13" Type="http://schemas.openxmlformats.org/officeDocument/2006/relationships/image" Target="../media/image1.jpeg"/><Relationship Id="rId14" Type="http://schemas.openxmlformats.org/officeDocument/2006/relationships/image" Target="../media/image1.jpeg"/><Relationship Id="rId15" Type="http://schemas.openxmlformats.org/officeDocument/2006/relationships/image" Target="../media/image1.jpeg"/><Relationship Id="rId16" Type="http://schemas.openxmlformats.org/officeDocument/2006/relationships/image" Target="../media/image1.jpeg"/><Relationship Id="rId17" Type="http://schemas.openxmlformats.org/officeDocument/2006/relationships/image" Target="../media/image1.jpeg"/><Relationship Id="rId18" Type="http://schemas.openxmlformats.org/officeDocument/2006/relationships/image" Target="../media/image1.jpeg"/><Relationship Id="rId19" Type="http://schemas.openxmlformats.org/officeDocument/2006/relationships/image" Target="../media/image1.jpeg"/><Relationship Id="rId20" Type="http://schemas.openxmlformats.org/officeDocument/2006/relationships/image" Target="../media/image1.jpeg"/><Relationship Id="rId21" Type="http://schemas.openxmlformats.org/officeDocument/2006/relationships/image" Target="../media/image1.jpeg"/><Relationship Id="rId22" Type="http://schemas.openxmlformats.org/officeDocument/2006/relationships/image" Target="../media/image1.jpeg"/><Relationship Id="rId23" Type="http://schemas.openxmlformats.org/officeDocument/2006/relationships/image" Target="../media/image1.jpeg"/><Relationship Id="rId24" Type="http://schemas.openxmlformats.org/officeDocument/2006/relationships/image" Target="../media/image1.jpeg"/><Relationship Id="rId25" Type="http://schemas.openxmlformats.org/officeDocument/2006/relationships/image" Target="../media/image1.jpeg"/><Relationship Id="rId26" Type="http://schemas.openxmlformats.org/officeDocument/2006/relationships/image" Target="../media/image1.jpeg"/><Relationship Id="rId27" Type="http://schemas.openxmlformats.org/officeDocument/2006/relationships/image" Target="../media/image1.jpeg"/><Relationship Id="rId28" Type="http://schemas.openxmlformats.org/officeDocument/2006/relationships/image" Target="../media/image1.jpeg"/><Relationship Id="rId29" Type="http://schemas.openxmlformats.org/officeDocument/2006/relationships/image" Target="../media/image1.jpeg"/><Relationship Id="rId30" Type="http://schemas.openxmlformats.org/officeDocument/2006/relationships/image" Target="../media/image1.jpeg"/><Relationship Id="rId31" Type="http://schemas.openxmlformats.org/officeDocument/2006/relationships/image" Target="../media/image1.jpeg"/><Relationship Id="rId32" Type="http://schemas.openxmlformats.org/officeDocument/2006/relationships/image" Target="../media/image1.jpeg"/><Relationship Id="rId33" Type="http://schemas.openxmlformats.org/officeDocument/2006/relationships/image" Target="../media/image1.jpeg"/><Relationship Id="rId34" Type="http://schemas.openxmlformats.org/officeDocument/2006/relationships/image" Target="../media/image1.jpeg"/><Relationship Id="rId35" Type="http://schemas.openxmlformats.org/officeDocument/2006/relationships/image" Target="../media/image1.jpeg"/><Relationship Id="rId36" Type="http://schemas.openxmlformats.org/officeDocument/2006/relationships/image" Target="../media/image8.wmf"/><Relationship Id="rId37" Type="http://schemas.openxmlformats.org/officeDocument/2006/relationships/image" Target="../media/image1.jpeg"/><Relationship Id="rId38" Type="http://schemas.openxmlformats.org/officeDocument/2006/relationships/image" Target="../media/image1.jpeg"/><Relationship Id="rId39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1.jpeg"/><Relationship Id="rId13" Type="http://schemas.openxmlformats.org/officeDocument/2006/relationships/image" Target="../media/image1.jpeg"/><Relationship Id="rId14" Type="http://schemas.openxmlformats.org/officeDocument/2006/relationships/image" Target="../media/image1.jpeg"/><Relationship Id="rId15" Type="http://schemas.openxmlformats.org/officeDocument/2006/relationships/image" Target="../media/image1.jpeg"/><Relationship Id="rId16" Type="http://schemas.openxmlformats.org/officeDocument/2006/relationships/image" Target="../media/image2.wmf"/><Relationship Id="rId17" Type="http://schemas.openxmlformats.org/officeDocument/2006/relationships/image" Target="../media/image3.jpeg"/><Relationship Id="rId18" Type="http://schemas.openxmlformats.org/officeDocument/2006/relationships/image" Target="../media/image3.jpeg"/><Relationship Id="rId19" Type="http://schemas.openxmlformats.org/officeDocument/2006/relationships/image" Target="../media/image3.jpeg"/><Relationship Id="rId20" Type="http://schemas.openxmlformats.org/officeDocument/2006/relationships/image" Target="../media/image3.jpeg"/><Relationship Id="rId21" Type="http://schemas.openxmlformats.org/officeDocument/2006/relationships/image" Target="../media/image3.jpeg"/><Relationship Id="rId22" Type="http://schemas.openxmlformats.org/officeDocument/2006/relationships/image" Target="../media/image3.jpeg"/><Relationship Id="rId23" Type="http://schemas.openxmlformats.org/officeDocument/2006/relationships/image" Target="../media/image4.gif"/><Relationship Id="rId2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1.jpeg"/><Relationship Id="rId13" Type="http://schemas.openxmlformats.org/officeDocument/2006/relationships/image" Target="../media/image1.jpeg"/><Relationship Id="rId14" Type="http://schemas.openxmlformats.org/officeDocument/2006/relationships/image" Target="../media/image1.jpeg"/><Relationship Id="rId15" Type="http://schemas.openxmlformats.org/officeDocument/2006/relationships/image" Target="../media/image1.jpeg"/><Relationship Id="rId16" Type="http://schemas.openxmlformats.org/officeDocument/2006/relationships/image" Target="../media/image2.wmf"/><Relationship Id="rId17" Type="http://schemas.openxmlformats.org/officeDocument/2006/relationships/image" Target="../media/image3.jpeg"/><Relationship Id="rId18" Type="http://schemas.openxmlformats.org/officeDocument/2006/relationships/image" Target="../media/image3.jpeg"/><Relationship Id="rId19" Type="http://schemas.openxmlformats.org/officeDocument/2006/relationships/image" Target="../media/image3.jpeg"/><Relationship Id="rId20" Type="http://schemas.openxmlformats.org/officeDocument/2006/relationships/image" Target="../media/image3.jpeg"/><Relationship Id="rId21" Type="http://schemas.openxmlformats.org/officeDocument/2006/relationships/image" Target="../media/image3.jpeg"/><Relationship Id="rId22" Type="http://schemas.openxmlformats.org/officeDocument/2006/relationships/image" Target="../media/image3.jpeg"/><Relationship Id="rId23" Type="http://schemas.openxmlformats.org/officeDocument/2006/relationships/image" Target="../media/image4.gif"/><Relationship Id="rId2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1.jpeg"/><Relationship Id="rId13" Type="http://schemas.openxmlformats.org/officeDocument/2006/relationships/image" Target="../media/image1.jpeg"/><Relationship Id="rId14" Type="http://schemas.openxmlformats.org/officeDocument/2006/relationships/image" Target="../media/image1.jpeg"/><Relationship Id="rId15" Type="http://schemas.openxmlformats.org/officeDocument/2006/relationships/image" Target="../media/image1.jpeg"/><Relationship Id="rId16" Type="http://schemas.openxmlformats.org/officeDocument/2006/relationships/image" Target="../media/image2.wmf"/><Relationship Id="rId17" Type="http://schemas.openxmlformats.org/officeDocument/2006/relationships/image" Target="../media/image3.jpeg"/><Relationship Id="rId18" Type="http://schemas.openxmlformats.org/officeDocument/2006/relationships/image" Target="../media/image3.jpeg"/><Relationship Id="rId19" Type="http://schemas.openxmlformats.org/officeDocument/2006/relationships/image" Target="../media/image3.jpeg"/><Relationship Id="rId20" Type="http://schemas.openxmlformats.org/officeDocument/2006/relationships/image" Target="../media/image3.jpeg"/><Relationship Id="rId21" Type="http://schemas.openxmlformats.org/officeDocument/2006/relationships/image" Target="../media/image3.jpeg"/><Relationship Id="rId22" Type="http://schemas.openxmlformats.org/officeDocument/2006/relationships/image" Target="../media/image3.jpeg"/><Relationship Id="rId23" Type="http://schemas.openxmlformats.org/officeDocument/2006/relationships/image" Target="../media/image4.gif"/><Relationship Id="rId2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1.jpeg"/><Relationship Id="rId13" Type="http://schemas.openxmlformats.org/officeDocument/2006/relationships/image" Target="../media/image1.jpeg"/><Relationship Id="rId14" Type="http://schemas.openxmlformats.org/officeDocument/2006/relationships/image" Target="../media/image1.jpeg"/><Relationship Id="rId15" Type="http://schemas.openxmlformats.org/officeDocument/2006/relationships/image" Target="../media/image1.jpeg"/><Relationship Id="rId16" Type="http://schemas.openxmlformats.org/officeDocument/2006/relationships/image" Target="../media/image1.jpeg"/><Relationship Id="rId17" Type="http://schemas.openxmlformats.org/officeDocument/2006/relationships/image" Target="../media/image2.wmf"/><Relationship Id="rId18" Type="http://schemas.openxmlformats.org/officeDocument/2006/relationships/image" Target="../media/image3.jpeg"/><Relationship Id="rId19" Type="http://schemas.openxmlformats.org/officeDocument/2006/relationships/image" Target="../media/image3.jpeg"/><Relationship Id="rId20" Type="http://schemas.openxmlformats.org/officeDocument/2006/relationships/image" Target="../media/image3.jpeg"/><Relationship Id="rId21" Type="http://schemas.openxmlformats.org/officeDocument/2006/relationships/image" Target="../media/image3.jpeg"/><Relationship Id="rId22" Type="http://schemas.openxmlformats.org/officeDocument/2006/relationships/image" Target="../media/image3.jpeg"/><Relationship Id="rId23" Type="http://schemas.openxmlformats.org/officeDocument/2006/relationships/image" Target="../media/image3.jpeg"/><Relationship Id="rId24" Type="http://schemas.openxmlformats.org/officeDocument/2006/relationships/image" Target="../media/image3.jpeg"/><Relationship Id="rId25" Type="http://schemas.openxmlformats.org/officeDocument/2006/relationships/image" Target="../media/image3.jpeg"/><Relationship Id="rId26" Type="http://schemas.openxmlformats.org/officeDocument/2006/relationships/image" Target="../media/image3.jpeg"/><Relationship Id="rId2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1.jpeg"/><Relationship Id="rId13" Type="http://schemas.openxmlformats.org/officeDocument/2006/relationships/image" Target="../media/image1.jpeg"/><Relationship Id="rId14" Type="http://schemas.openxmlformats.org/officeDocument/2006/relationships/image" Target="../media/image1.jpeg"/><Relationship Id="rId15" Type="http://schemas.openxmlformats.org/officeDocument/2006/relationships/image" Target="../media/image1.jpeg"/><Relationship Id="rId16" Type="http://schemas.openxmlformats.org/officeDocument/2006/relationships/image" Target="../media/image1.jpeg"/><Relationship Id="rId17" Type="http://schemas.openxmlformats.org/officeDocument/2006/relationships/image" Target="../media/image2.wmf"/><Relationship Id="rId18" Type="http://schemas.openxmlformats.org/officeDocument/2006/relationships/image" Target="../media/image1.jpeg"/><Relationship Id="rId19" Type="http://schemas.openxmlformats.org/officeDocument/2006/relationships/image" Target="../media/image1.jpeg"/><Relationship Id="rId20" Type="http://schemas.openxmlformats.org/officeDocument/2006/relationships/image" Target="../media/image1.jpeg"/><Relationship Id="rId21" Type="http://schemas.openxmlformats.org/officeDocument/2006/relationships/image" Target="../media/image1.jpeg"/><Relationship Id="rId22" Type="http://schemas.openxmlformats.org/officeDocument/2006/relationships/image" Target="../media/image1.jpeg"/><Relationship Id="rId2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10666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a50021"/>
                </a:solidFill>
                <a:latin typeface="Tahoma"/>
              </a:rPr>
              <a:t>Melete: Supporting Concurrent Applications in Wireless Sensor Networks</a:t>
            </a:r>
            <a:endParaRPr b="0" lang="en-US" sz="33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4008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ang Yu, Loren J. Ritt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Pervasive Platform and Architecture Lab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Application Research Cent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Motorola Lab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tika Bhandar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University of Illinois at Urbana-Champaig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son B. LeBr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University of California, Davi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2978280" y="2743200"/>
            <a:ext cx="272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M SenS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vember 3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oftwar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9" name=""/>
          <p:cNvSpPr/>
          <p:nvPr/>
        </p:nvSpPr>
        <p:spPr>
          <a:xfrm>
            <a:off x="2743200" y="5105520"/>
            <a:ext cx="4114800" cy="5331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ny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743200" y="5638680"/>
            <a:ext cx="411480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743200" y="2743200"/>
            <a:ext cx="4114800" cy="2362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1906560" y="373392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4541760" y="2819520"/>
            <a:ext cx="221004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865600" y="3886200"/>
            <a:ext cx="144756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5105520" y="1981080"/>
            <a:ext cx="68580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6" name=""/>
          <p:cNvGrpSpPr/>
          <p:nvPr/>
        </p:nvGrpSpPr>
        <p:grpSpPr>
          <a:xfrm>
            <a:off x="2743200" y="1523520"/>
            <a:ext cx="685800" cy="1143000"/>
            <a:chOff x="2743200" y="1523520"/>
            <a:chExt cx="685800" cy="1143000"/>
          </a:xfrm>
        </p:grpSpPr>
        <p:sp>
          <p:nvSpPr>
            <p:cNvPr id="467" name=""/>
            <p:cNvSpPr/>
            <p:nvPr/>
          </p:nvSpPr>
          <p:spPr>
            <a:xfrm rot="16200000">
              <a:off x="2514600" y="1752120"/>
              <a:ext cx="1143000" cy="685800"/>
            </a:xfrm>
            <a:prstGeom prst="horizontalScroll">
              <a:avLst>
                <a:gd name="adj" fmla="val 25000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849400" y="19411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9" name=""/>
          <p:cNvGrpSpPr/>
          <p:nvPr/>
        </p:nvGrpSpPr>
        <p:grpSpPr>
          <a:xfrm>
            <a:off x="3505320" y="1523520"/>
            <a:ext cx="685800" cy="1143000"/>
            <a:chOff x="3505320" y="1523520"/>
            <a:chExt cx="685800" cy="1143000"/>
          </a:xfrm>
        </p:grpSpPr>
        <p:sp>
          <p:nvSpPr>
            <p:cNvPr id="470" name=""/>
            <p:cNvSpPr/>
            <p:nvPr/>
          </p:nvSpPr>
          <p:spPr>
            <a:xfrm rot="16200000">
              <a:off x="3276720" y="1752120"/>
              <a:ext cx="1143000" cy="685800"/>
            </a:xfrm>
            <a:prstGeom prst="horizontalScroll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611520" y="19411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2" name=""/>
          <p:cNvGrpSpPr/>
          <p:nvPr/>
        </p:nvGrpSpPr>
        <p:grpSpPr>
          <a:xfrm>
            <a:off x="4267080" y="1523520"/>
            <a:ext cx="685800" cy="1143000"/>
            <a:chOff x="4267080" y="1523520"/>
            <a:chExt cx="685800" cy="1143000"/>
          </a:xfrm>
        </p:grpSpPr>
        <p:sp>
          <p:nvSpPr>
            <p:cNvPr id="473" name=""/>
            <p:cNvSpPr/>
            <p:nvPr/>
          </p:nvSpPr>
          <p:spPr>
            <a:xfrm rot="16200000">
              <a:off x="4038480" y="1752120"/>
              <a:ext cx="1143000" cy="685800"/>
            </a:xfrm>
            <a:prstGeom prst="horizontalScroll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373280" y="19411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5" name=""/>
          <p:cNvGrpSpPr/>
          <p:nvPr/>
        </p:nvGrpSpPr>
        <p:grpSpPr>
          <a:xfrm>
            <a:off x="5943600" y="1523520"/>
            <a:ext cx="685800" cy="1143000"/>
            <a:chOff x="5943600" y="1523520"/>
            <a:chExt cx="685800" cy="1143000"/>
          </a:xfrm>
        </p:grpSpPr>
        <p:sp>
          <p:nvSpPr>
            <p:cNvPr id="476" name=""/>
            <p:cNvSpPr/>
            <p:nvPr/>
          </p:nvSpPr>
          <p:spPr>
            <a:xfrm rot="16200000">
              <a:off x="5715000" y="1752120"/>
              <a:ext cx="1143000" cy="685800"/>
            </a:xfrm>
            <a:prstGeom prst="horizontalScroll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049800" y="19411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1295280" y="1492200"/>
            <a:ext cx="1219320" cy="946080"/>
          </a:xfrm>
          <a:prstGeom prst="rect">
            <a:avLst/>
          </a:prstGeom>
          <a:ln w="0">
            <a:noFill/>
          </a:ln>
        </p:spPr>
      </p:pic>
      <p:sp>
        <p:nvSpPr>
          <p:cNvPr id="479" name=""/>
          <p:cNvSpPr/>
          <p:nvPr/>
        </p:nvSpPr>
        <p:spPr>
          <a:xfrm>
            <a:off x="2965320" y="4343400"/>
            <a:ext cx="3812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3803760" y="4343400"/>
            <a:ext cx="3808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3435480" y="464832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844360" y="388620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4581360" y="4572000"/>
            <a:ext cx="6858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4541760" y="3886200"/>
            <a:ext cx="221004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5838840" y="3854520"/>
            <a:ext cx="93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Arial"/>
              </a:rPr>
              <a:t>contex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5303880" y="4572000"/>
            <a:ext cx="7621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bo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6110280" y="4572000"/>
            <a:ext cx="6094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4586400" y="4114800"/>
            <a:ext cx="10666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oadc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865600" y="2819520"/>
            <a:ext cx="144756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2821320" y="2790720"/>
            <a:ext cx="156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Arial"/>
              </a:rPr>
              <a:t>code distribu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2438280" y="2819520"/>
            <a:ext cx="152640" cy="2209680"/>
          </a:xfrm>
          <a:custGeom>
            <a:avLst/>
            <a:gdLst>
              <a:gd name="textAreaLeft" fmla="*/ 97560 w 152640"/>
              <a:gd name="textAreaRight" fmla="*/ 153000 w 152640"/>
              <a:gd name="textAreaTop" fmla="*/ 57600 h 2209680"/>
              <a:gd name="textAreaBottom" fmla="*/ 2152080 h 2209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3094200" y="3124080"/>
            <a:ext cx="3808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3094200" y="3505320"/>
            <a:ext cx="3808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3703680" y="3124080"/>
            <a:ext cx="3808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3703680" y="3505320"/>
            <a:ext cx="3808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3294000" y="3352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3475080" y="3232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3422520" y="331632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474720" y="32767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3908520" y="3352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3458880" y="36259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5990400" y="281952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Arial"/>
              </a:rPr>
              <a:t>eng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4618080" y="3352680"/>
            <a:ext cx="9144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c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5608800" y="3352680"/>
            <a:ext cx="10666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edu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4618080" y="2895480"/>
            <a:ext cx="9144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6" name=""/>
          <p:cNvGrpSpPr/>
          <p:nvPr/>
        </p:nvGrpSpPr>
        <p:grpSpPr>
          <a:xfrm>
            <a:off x="65160" y="2538360"/>
            <a:ext cx="8972640" cy="2995200"/>
            <a:chOff x="65160" y="2538360"/>
            <a:chExt cx="8972640" cy="2995200"/>
          </a:xfrm>
        </p:grpSpPr>
        <p:sp>
          <p:nvSpPr>
            <p:cNvPr id="507" name=""/>
            <p:cNvSpPr/>
            <p:nvPr/>
          </p:nvSpPr>
          <p:spPr>
            <a:xfrm>
              <a:off x="2362320" y="28195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5160" y="2538360"/>
              <a:ext cx="2729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New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: group-differenti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 flipV="1">
              <a:off x="2362320" y="4266720"/>
              <a:ext cx="60948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209520" y="4952880"/>
              <a:ext cx="26668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New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: separated app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ode storag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 flipH="1">
              <a:off x="6553080" y="39625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934320" y="3429000"/>
              <a:ext cx="21034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New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: separated app. execution space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 flipH="1" flipV="1">
              <a:off x="6553080" y="3123720"/>
              <a:ext cx="5335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4" name=""/>
          <p:cNvGrpSpPr/>
          <p:nvPr/>
        </p:nvGrpSpPr>
        <p:grpSpPr>
          <a:xfrm>
            <a:off x="914400" y="1758960"/>
            <a:ext cx="2733480" cy="747360"/>
            <a:chOff x="914400" y="1758960"/>
            <a:chExt cx="2733480" cy="747360"/>
          </a:xfrm>
        </p:grpSpPr>
        <p:pic>
          <p:nvPicPr>
            <p:cNvPr id="515" name="" descr=""/>
            <p:cNvPicPr/>
            <p:nvPr/>
          </p:nvPicPr>
          <p:blipFill>
            <a:blip r:embed="rId1"/>
            <a:stretch/>
          </p:blipFill>
          <p:spPr>
            <a:xfrm>
              <a:off x="991800" y="1848240"/>
              <a:ext cx="390600" cy="30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6" name="" descr=""/>
            <p:cNvPicPr/>
            <p:nvPr/>
          </p:nvPicPr>
          <p:blipFill>
            <a:blip r:embed="rId2"/>
            <a:stretch/>
          </p:blipFill>
          <p:spPr>
            <a:xfrm>
              <a:off x="3257280" y="2202120"/>
              <a:ext cx="390600" cy="30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7" name="" descr=""/>
            <p:cNvPicPr/>
            <p:nvPr/>
          </p:nvPicPr>
          <p:blipFill>
            <a:blip r:embed="rId3"/>
            <a:stretch/>
          </p:blipFill>
          <p:spPr>
            <a:xfrm>
              <a:off x="1773720" y="1848240"/>
              <a:ext cx="390600" cy="30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8" name="" descr=""/>
            <p:cNvPicPr/>
            <p:nvPr/>
          </p:nvPicPr>
          <p:blipFill>
            <a:blip r:embed="rId4"/>
            <a:stretch/>
          </p:blipFill>
          <p:spPr>
            <a:xfrm>
              <a:off x="2320200" y="2202120"/>
              <a:ext cx="390600" cy="30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9" name="" descr=""/>
            <p:cNvPicPr/>
            <p:nvPr/>
          </p:nvPicPr>
          <p:blipFill>
            <a:blip r:embed="rId5"/>
            <a:stretch/>
          </p:blipFill>
          <p:spPr>
            <a:xfrm>
              <a:off x="2788560" y="1758960"/>
              <a:ext cx="390960" cy="30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0" name=""/>
            <p:cNvSpPr/>
            <p:nvPr/>
          </p:nvSpPr>
          <p:spPr>
            <a:xfrm>
              <a:off x="1358640" y="2025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 flipV="1">
              <a:off x="2164320" y="1935720"/>
              <a:ext cx="623880" cy="8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 flipH="1">
              <a:off x="2579400" y="1987560"/>
              <a:ext cx="233280" cy="266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179520" y="2025000"/>
              <a:ext cx="235080" cy="176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164320" y="2115000"/>
              <a:ext cx="233280" cy="8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914400" y="1758960"/>
              <a:ext cx="533160" cy="532440"/>
            </a:xfrm>
            <a:prstGeom prst="ellipse">
              <a:avLst/>
            </a:prstGeom>
            <a:noFill/>
            <a:ln w="1908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Group-Differentiated Code Dissemin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1080720" y="4441320"/>
            <a:ext cx="7196040" cy="16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ization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zy forwarding: reduces false-positive forwar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gressive flooding: limits flooded ar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ching: reduces forwarding eff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28" name=""/>
          <p:cNvGraphicFramePr/>
          <p:nvPr/>
        </p:nvGraphicFramePr>
        <p:xfrm>
          <a:off x="4241880" y="1346040"/>
          <a:ext cx="4190760" cy="27482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241880" y="1346040"/>
                    <a:ext cx="4190760" cy="274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0" name=""/>
          <p:cNvSpPr/>
          <p:nvPr/>
        </p:nvSpPr>
        <p:spPr>
          <a:xfrm>
            <a:off x="1727280" y="1752480"/>
            <a:ext cx="492120" cy="462240"/>
          </a:xfrm>
          <a:prstGeom prst="ellipse">
            <a:avLst/>
          </a:prstGeom>
          <a:noFill/>
          <a:ln w="190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1" name=""/>
          <p:cNvGrpSpPr/>
          <p:nvPr/>
        </p:nvGrpSpPr>
        <p:grpSpPr>
          <a:xfrm>
            <a:off x="965160" y="3154320"/>
            <a:ext cx="2733480" cy="747360"/>
            <a:chOff x="965160" y="3154320"/>
            <a:chExt cx="2733480" cy="747360"/>
          </a:xfrm>
        </p:grpSpPr>
        <p:pic>
          <p:nvPicPr>
            <p:cNvPr id="532" name="" descr=""/>
            <p:cNvPicPr/>
            <p:nvPr/>
          </p:nvPicPr>
          <p:blipFill>
            <a:blip r:embed="rId8"/>
            <a:stretch/>
          </p:blipFill>
          <p:spPr>
            <a:xfrm>
              <a:off x="1042560" y="3243600"/>
              <a:ext cx="390600" cy="30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3" name="" descr=""/>
            <p:cNvPicPr/>
            <p:nvPr/>
          </p:nvPicPr>
          <p:blipFill>
            <a:blip r:embed="rId9"/>
            <a:stretch/>
          </p:blipFill>
          <p:spPr>
            <a:xfrm>
              <a:off x="3308040" y="3597480"/>
              <a:ext cx="390600" cy="30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4" name="" descr=""/>
            <p:cNvPicPr/>
            <p:nvPr/>
          </p:nvPicPr>
          <p:blipFill>
            <a:blip r:embed="rId10"/>
            <a:stretch/>
          </p:blipFill>
          <p:spPr>
            <a:xfrm>
              <a:off x="1824480" y="3243600"/>
              <a:ext cx="390600" cy="30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5" name="" descr=""/>
            <p:cNvPicPr/>
            <p:nvPr/>
          </p:nvPicPr>
          <p:blipFill>
            <a:blip r:embed="rId11"/>
            <a:stretch/>
          </p:blipFill>
          <p:spPr>
            <a:xfrm>
              <a:off x="2370960" y="3597480"/>
              <a:ext cx="390600" cy="30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6" name="" descr=""/>
            <p:cNvPicPr/>
            <p:nvPr/>
          </p:nvPicPr>
          <p:blipFill>
            <a:blip r:embed="rId12"/>
            <a:stretch/>
          </p:blipFill>
          <p:spPr>
            <a:xfrm>
              <a:off x="2839320" y="3154320"/>
              <a:ext cx="390960" cy="30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"/>
            <p:cNvSpPr/>
            <p:nvPr/>
          </p:nvSpPr>
          <p:spPr>
            <a:xfrm>
              <a:off x="1409400" y="3420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 flipV="1">
              <a:off x="2215080" y="3331080"/>
              <a:ext cx="623880" cy="8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 flipH="1">
              <a:off x="2630160" y="3382920"/>
              <a:ext cx="233280" cy="266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230280" y="3420360"/>
              <a:ext cx="235080" cy="176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215080" y="3510360"/>
              <a:ext cx="233280" cy="8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965160" y="3154320"/>
              <a:ext cx="533160" cy="532440"/>
            </a:xfrm>
            <a:prstGeom prst="ellipse">
              <a:avLst/>
            </a:prstGeom>
            <a:noFill/>
            <a:ln w="1908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3" name=""/>
          <p:cNvSpPr/>
          <p:nvPr/>
        </p:nvSpPr>
        <p:spPr>
          <a:xfrm>
            <a:off x="3251160" y="3505320"/>
            <a:ext cx="533520" cy="533160"/>
          </a:xfrm>
          <a:prstGeom prst="ellipse">
            <a:avLst/>
          </a:prstGeom>
          <a:noFill/>
          <a:ln w="190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 flipH="1" flipV="1">
            <a:off x="3276360" y="3354480"/>
            <a:ext cx="266760" cy="22680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 flipH="1">
            <a:off x="2234880" y="3276720"/>
            <a:ext cx="431640" cy="7596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 flipH="1">
            <a:off x="2679840" y="3463920"/>
            <a:ext cx="177840" cy="22716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 flipH="1">
            <a:off x="1396800" y="3276720"/>
            <a:ext cx="355320" cy="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8" name=""/>
          <p:cNvGrpSpPr/>
          <p:nvPr/>
        </p:nvGrpSpPr>
        <p:grpSpPr>
          <a:xfrm>
            <a:off x="1422000" y="1752480"/>
            <a:ext cx="1244880" cy="489240"/>
            <a:chOff x="1422000" y="1752480"/>
            <a:chExt cx="1244880" cy="489240"/>
          </a:xfrm>
        </p:grpSpPr>
        <p:sp>
          <p:nvSpPr>
            <p:cNvPr id="549" name=""/>
            <p:cNvSpPr/>
            <p:nvPr/>
          </p:nvSpPr>
          <p:spPr>
            <a:xfrm flipH="1">
              <a:off x="1422000" y="1752480"/>
              <a:ext cx="328680" cy="1800"/>
            </a:xfrm>
            <a:prstGeom prst="line">
              <a:avLst/>
            </a:prstGeom>
            <a:ln w="936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 flipV="1">
              <a:off x="2362320" y="1828800"/>
              <a:ext cx="304560" cy="76320"/>
            </a:xfrm>
            <a:prstGeom prst="line">
              <a:avLst/>
            </a:prstGeom>
            <a:ln w="936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089080" y="2165400"/>
              <a:ext cx="228600" cy="76320"/>
            </a:xfrm>
            <a:prstGeom prst="line">
              <a:avLst/>
            </a:prstGeom>
            <a:ln w="936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2" name=""/>
          <p:cNvSpPr/>
          <p:nvPr/>
        </p:nvSpPr>
        <p:spPr>
          <a:xfrm>
            <a:off x="8154720" y="3657600"/>
            <a:ext cx="3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Tahoma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8231400" y="182880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Tahoma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5336640" y="403848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Tahoma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5244120" y="144792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Tahoma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491640" y="182880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Tahoma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2881800" y="144792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Tahoma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3567600" y="327672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Tahoma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577240" y="236232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Tahoma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1815120" y="137160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Tahoma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595800" y="152388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Tahoma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1830240" y="1371600"/>
            <a:ext cx="3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Tahoma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12360" y="152388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Tahoma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4" name=""/>
          <p:cNvGrpSpPr/>
          <p:nvPr/>
        </p:nvGrpSpPr>
        <p:grpSpPr>
          <a:xfrm>
            <a:off x="1447920" y="2133720"/>
            <a:ext cx="328320" cy="280440"/>
            <a:chOff x="1447920" y="2133720"/>
            <a:chExt cx="328320" cy="280440"/>
          </a:xfrm>
        </p:grpSpPr>
        <p:sp>
          <p:nvSpPr>
            <p:cNvPr id="565" name=""/>
            <p:cNvSpPr/>
            <p:nvPr/>
          </p:nvSpPr>
          <p:spPr>
            <a:xfrm>
              <a:off x="1447920" y="2133720"/>
              <a:ext cx="328320" cy="1440"/>
            </a:xfrm>
            <a:prstGeom prst="line">
              <a:avLst/>
            </a:prstGeom>
            <a:ln w="9360">
              <a:solidFill>
                <a:srgbClr val="ffc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 rot="16200000">
              <a:off x="1485720" y="2223360"/>
              <a:ext cx="228600" cy="152640"/>
            </a:xfrm>
            <a:prstGeom prst="horizontalScroll">
              <a:avLst>
                <a:gd name="adj" fmla="val 25000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7" name=""/>
          <p:cNvSpPr/>
          <p:nvPr/>
        </p:nvSpPr>
        <p:spPr>
          <a:xfrm>
            <a:off x="2805840" y="281952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Tahoma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2196000" y="388620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Tahoma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1815120" y="289548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Tahoma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595800" y="297180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Tahoma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3590640" y="3282840"/>
            <a:ext cx="3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Tahoma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2821320" y="28195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Tahoma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1830600" y="2895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Tahoma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2211480" y="388620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Tahoma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20280" y="297036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Tahoma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6" name=""/>
          <p:cNvGrpSpPr/>
          <p:nvPr/>
        </p:nvGrpSpPr>
        <p:grpSpPr>
          <a:xfrm>
            <a:off x="1397160" y="3429000"/>
            <a:ext cx="1993680" cy="380520"/>
            <a:chOff x="1397160" y="3429000"/>
            <a:chExt cx="1993680" cy="380520"/>
          </a:xfrm>
        </p:grpSpPr>
        <p:sp>
          <p:nvSpPr>
            <p:cNvPr id="577" name=""/>
            <p:cNvSpPr/>
            <p:nvPr/>
          </p:nvSpPr>
          <p:spPr>
            <a:xfrm>
              <a:off x="1397160" y="3505320"/>
              <a:ext cx="355320" cy="0"/>
            </a:xfrm>
            <a:prstGeom prst="line">
              <a:avLst/>
            </a:prstGeom>
            <a:ln w="9360">
              <a:solidFill>
                <a:srgbClr val="ffc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 flipV="1">
              <a:off x="2286000" y="3429000"/>
              <a:ext cx="457200" cy="38160"/>
            </a:xfrm>
            <a:prstGeom prst="line">
              <a:avLst/>
            </a:prstGeom>
            <a:ln w="9360">
              <a:solidFill>
                <a:srgbClr val="ffc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124080" y="3429000"/>
              <a:ext cx="266760" cy="227160"/>
            </a:xfrm>
            <a:prstGeom prst="line">
              <a:avLst/>
            </a:prstGeom>
            <a:ln w="9360">
              <a:solidFill>
                <a:srgbClr val="ffc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 rot="16200000">
              <a:off x="1485720" y="3618720"/>
              <a:ext cx="228600" cy="152640"/>
            </a:xfrm>
            <a:prstGeom prst="horizontalScroll">
              <a:avLst>
                <a:gd name="adj" fmla="val 25000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1" name=""/>
          <p:cNvSpPr/>
          <p:nvPr/>
        </p:nvSpPr>
        <p:spPr>
          <a:xfrm>
            <a:off x="5562720" y="1143000"/>
            <a:ext cx="1752480" cy="762120"/>
          </a:xfrm>
          <a:prstGeom prst="ellipse">
            <a:avLst/>
          </a:prstGeom>
          <a:noFill/>
          <a:ln w="1908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2" name=""/>
          <p:cNvGrpSpPr/>
          <p:nvPr/>
        </p:nvGrpSpPr>
        <p:grpSpPr>
          <a:xfrm>
            <a:off x="5257800" y="2057400"/>
            <a:ext cx="2590920" cy="1905120"/>
            <a:chOff x="5257800" y="2057400"/>
            <a:chExt cx="2590920" cy="1905120"/>
          </a:xfrm>
        </p:grpSpPr>
        <p:sp>
          <p:nvSpPr>
            <p:cNvPr id="583" name=""/>
            <p:cNvSpPr/>
            <p:nvPr/>
          </p:nvSpPr>
          <p:spPr>
            <a:xfrm>
              <a:off x="5257800" y="2057400"/>
              <a:ext cx="2590920" cy="1905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4" name=""/>
            <p:cNvGrpSpPr/>
            <p:nvPr/>
          </p:nvGrpSpPr>
          <p:grpSpPr>
            <a:xfrm>
              <a:off x="5310720" y="2257560"/>
              <a:ext cx="2397600" cy="1641600"/>
              <a:chOff x="5310720" y="2257560"/>
              <a:chExt cx="2397600" cy="1641600"/>
            </a:xfrm>
          </p:grpSpPr>
          <p:sp>
            <p:nvSpPr>
              <p:cNvPr id="585" name=""/>
              <p:cNvSpPr/>
              <p:nvPr/>
            </p:nvSpPr>
            <p:spPr>
              <a:xfrm>
                <a:off x="5736600" y="3565440"/>
                <a:ext cx="1909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 flipV="1">
                <a:off x="5805000" y="2257560"/>
                <a:ext cx="0" cy="136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6105600" y="3530880"/>
                <a:ext cx="1602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# of request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5310720" y="2876760"/>
                <a:ext cx="36504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P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Tahoma"/>
                  </a:rPr>
                  <a:t>f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5805000" y="2257560"/>
                <a:ext cx="1636560" cy="1307880"/>
              </a:xfrm>
              <a:custGeom>
                <a:avLst/>
                <a:gdLst/>
                <a:ahLst/>
                <a:rect l="l" t="t" r="r" b="b"/>
                <a:pathLst>
                  <a:path w="1152" h="1056">
                    <a:moveTo>
                      <a:pt x="0" y="1056"/>
                    </a:moveTo>
                    <a:cubicBezTo>
                      <a:pt x="28" y="820"/>
                      <a:pt x="56" y="584"/>
                      <a:pt x="144" y="432"/>
                    </a:cubicBezTo>
                    <a:cubicBezTo>
                      <a:pt x="232" y="280"/>
                      <a:pt x="360" y="216"/>
                      <a:pt x="528" y="144"/>
                    </a:cubicBezTo>
                    <a:cubicBezTo>
                      <a:pt x="696" y="72"/>
                      <a:pt x="1048" y="24"/>
                      <a:pt x="1152" y="0"/>
                    </a:cubicBez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6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mph" presetID="35" repeatCount="3000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3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4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mph" presetID="35" repeatCount="3000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1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3000"/>
                            </p:stCondLst>
                            <p:childTnLst>
                              <p:par>
                                <p:cTn id="123" nodeType="afterEffect" fill="hold" presetClass="entr" presetID="18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5" dur="2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500"/>
                            </p:stCondLst>
                            <p:childTnLst>
                              <p:par>
                                <p:cTn id="127" nodeType="afterEffect" fill="hold" presetClass="exit" presetID="3" presetSubtype="10">
                                  <p:stCondLst>
                                    <p:cond delay="50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8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xit" presetID="3" presetSubtype="10">
                                  <p:stCondLst>
                                    <p:cond delay="100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4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mph" presetID="35" repeatCount="3000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2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7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xit" presetID="3" presetSubtype="10">
                                  <p:stCondLst>
                                    <p:cond delay="100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9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500"/>
                            </p:stCondLst>
                            <p:childTnLst>
                              <p:par>
                                <p:cTn id="185" nodeType="afterEffect" fill="hold" presetClass="entr" presetID="18" presetSubtype="1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7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8" presetSubtype="1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0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xit" presetID="3" presetSubtype="10">
                                  <p:stCondLst>
                                    <p:cond delay="150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92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3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xit" presetID="3" presetSubtype="10">
                                  <p:stCondLst>
                                    <p:cond delay="150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98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3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3500"/>
                            </p:stCondLst>
                            <p:childTnLst>
                              <p:par>
                                <p:cTn id="204" nodeType="afterEffect" fill="hold" presetClass="entr" presetID="18" presetSubtype="1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6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xit" presetID="3" presetSubtype="10">
                                  <p:stCondLst>
                                    <p:cond delay="50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08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4500"/>
                            </p:stCondLst>
                            <p:childTnLst>
                              <p:par>
                                <p:cTn id="214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5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0" dur="3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3000"/>
                            </p:stCondLst>
                            <p:childTnLst>
                              <p:par>
                                <p:cTn id="222" nodeType="afterEffect" fill="hold" presetClass="exit" presetID="3" presetSubtype="10">
                                  <p:stCondLst>
                                    <p:cond delay="50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3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xit" presetID="3" presetSubtype="10">
                                  <p:stCondLst>
                                    <p:cond delay="50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9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xit" presetID="3" presetSubtype="10">
                                  <p:stCondLst>
                                    <p:cond delay="50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5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xit" presetID="3" presetSubtype="10">
                                  <p:stCondLst>
                                    <p:cond delay="50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41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xit" presetID="3" presetSubtype="10">
                                  <p:stCondLst>
                                    <p:cond delay="50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47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ive Flood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591" name="" descr=""/>
          <p:cNvPicPr/>
          <p:nvPr/>
        </p:nvPicPr>
        <p:blipFill>
          <a:blip r:embed="rId1"/>
          <a:stretch/>
        </p:blipFill>
        <p:spPr>
          <a:xfrm>
            <a:off x="914400" y="1371600"/>
            <a:ext cx="303120" cy="235080"/>
          </a:xfrm>
          <a:prstGeom prst="rect">
            <a:avLst/>
          </a:prstGeom>
          <a:ln w="0">
            <a:noFill/>
          </a:ln>
        </p:spPr>
      </p:pic>
      <p:pic>
        <p:nvPicPr>
          <p:cNvPr id="592" name="" descr=""/>
          <p:cNvPicPr/>
          <p:nvPr/>
        </p:nvPicPr>
        <p:blipFill>
          <a:blip r:embed="rId2"/>
          <a:stretch/>
        </p:blipFill>
        <p:spPr>
          <a:xfrm>
            <a:off x="2209680" y="2565360"/>
            <a:ext cx="228600" cy="177840"/>
          </a:xfrm>
          <a:prstGeom prst="rect">
            <a:avLst/>
          </a:prstGeom>
          <a:ln w="0">
            <a:noFill/>
          </a:ln>
        </p:spPr>
      </p:pic>
      <p:sp>
        <p:nvSpPr>
          <p:cNvPr id="593" name=""/>
          <p:cNvSpPr/>
          <p:nvPr/>
        </p:nvSpPr>
        <p:spPr>
          <a:xfrm>
            <a:off x="657360" y="2097000"/>
            <a:ext cx="380880" cy="381240"/>
          </a:xfrm>
          <a:prstGeom prst="ellipse">
            <a:avLst/>
          </a:prstGeom>
          <a:noFill/>
          <a:ln w="1908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" descr=""/>
          <p:cNvPicPr/>
          <p:nvPr/>
        </p:nvPicPr>
        <p:blipFill>
          <a:blip r:embed="rId3"/>
          <a:stretch/>
        </p:blipFill>
        <p:spPr>
          <a:xfrm>
            <a:off x="1905120" y="2971800"/>
            <a:ext cx="228600" cy="177840"/>
          </a:xfrm>
          <a:prstGeom prst="rect">
            <a:avLst/>
          </a:prstGeom>
          <a:ln w="0">
            <a:noFill/>
          </a:ln>
        </p:spPr>
      </p:pic>
      <p:pic>
        <p:nvPicPr>
          <p:cNvPr id="595" name="" descr=""/>
          <p:cNvPicPr/>
          <p:nvPr/>
        </p:nvPicPr>
        <p:blipFill>
          <a:blip r:embed="rId4"/>
          <a:stretch/>
        </p:blipFill>
        <p:spPr>
          <a:xfrm>
            <a:off x="1828800" y="2438280"/>
            <a:ext cx="228600" cy="177840"/>
          </a:xfrm>
          <a:prstGeom prst="rect">
            <a:avLst/>
          </a:prstGeom>
          <a:ln w="0">
            <a:noFill/>
          </a:ln>
        </p:spPr>
      </p:pic>
      <p:pic>
        <p:nvPicPr>
          <p:cNvPr id="596" name="" descr=""/>
          <p:cNvPicPr/>
          <p:nvPr/>
        </p:nvPicPr>
        <p:blipFill>
          <a:blip r:embed="rId5"/>
          <a:stretch/>
        </p:blipFill>
        <p:spPr>
          <a:xfrm>
            <a:off x="2590920" y="2666880"/>
            <a:ext cx="228600" cy="177840"/>
          </a:xfrm>
          <a:prstGeom prst="rect">
            <a:avLst/>
          </a:prstGeom>
          <a:ln w="0">
            <a:noFill/>
          </a:ln>
        </p:spPr>
      </p:pic>
      <p:pic>
        <p:nvPicPr>
          <p:cNvPr id="597" name="" descr=""/>
          <p:cNvPicPr/>
          <p:nvPr/>
        </p:nvPicPr>
        <p:blipFill>
          <a:blip r:embed="rId6"/>
          <a:stretch/>
        </p:blipFill>
        <p:spPr>
          <a:xfrm>
            <a:off x="2438280" y="3124080"/>
            <a:ext cx="228600" cy="177840"/>
          </a:xfrm>
          <a:prstGeom prst="rect">
            <a:avLst/>
          </a:prstGeom>
          <a:ln w="0">
            <a:noFill/>
          </a:ln>
        </p:spPr>
      </p:pic>
      <p:pic>
        <p:nvPicPr>
          <p:cNvPr id="598" name="" descr=""/>
          <p:cNvPicPr/>
          <p:nvPr/>
        </p:nvPicPr>
        <p:blipFill>
          <a:blip r:embed="rId7"/>
          <a:stretch/>
        </p:blipFill>
        <p:spPr>
          <a:xfrm>
            <a:off x="3276720" y="1219320"/>
            <a:ext cx="228600" cy="177840"/>
          </a:xfrm>
          <a:prstGeom prst="rect">
            <a:avLst/>
          </a:prstGeom>
          <a:ln w="0">
            <a:noFill/>
          </a:ln>
        </p:spPr>
      </p:pic>
      <p:pic>
        <p:nvPicPr>
          <p:cNvPr id="599" name="" descr=""/>
          <p:cNvPicPr/>
          <p:nvPr/>
        </p:nvPicPr>
        <p:blipFill>
          <a:blip r:embed="rId8"/>
          <a:stretch/>
        </p:blipFill>
        <p:spPr>
          <a:xfrm>
            <a:off x="3352680" y="2438280"/>
            <a:ext cx="228600" cy="177840"/>
          </a:xfrm>
          <a:prstGeom prst="rect">
            <a:avLst/>
          </a:prstGeom>
          <a:ln w="0">
            <a:noFill/>
          </a:ln>
        </p:spPr>
      </p:pic>
      <p:pic>
        <p:nvPicPr>
          <p:cNvPr id="600" name="" descr=""/>
          <p:cNvPicPr/>
          <p:nvPr/>
        </p:nvPicPr>
        <p:blipFill>
          <a:blip r:embed="rId9"/>
          <a:stretch/>
        </p:blipFill>
        <p:spPr>
          <a:xfrm>
            <a:off x="3124080" y="2819520"/>
            <a:ext cx="228600" cy="177840"/>
          </a:xfrm>
          <a:prstGeom prst="rect">
            <a:avLst/>
          </a:prstGeom>
          <a:ln w="0">
            <a:noFill/>
          </a:ln>
        </p:spPr>
      </p:pic>
      <p:pic>
        <p:nvPicPr>
          <p:cNvPr id="601" name="" descr=""/>
          <p:cNvPicPr/>
          <p:nvPr/>
        </p:nvPicPr>
        <p:blipFill>
          <a:blip r:embed="rId10"/>
          <a:stretch/>
        </p:blipFill>
        <p:spPr>
          <a:xfrm>
            <a:off x="3124080" y="3429000"/>
            <a:ext cx="228600" cy="177840"/>
          </a:xfrm>
          <a:prstGeom prst="rect">
            <a:avLst/>
          </a:prstGeom>
          <a:ln w="0">
            <a:noFill/>
          </a:ln>
        </p:spPr>
      </p:pic>
      <p:pic>
        <p:nvPicPr>
          <p:cNvPr id="602" name="" descr=""/>
          <p:cNvPicPr/>
          <p:nvPr/>
        </p:nvPicPr>
        <p:blipFill>
          <a:blip r:embed="rId11"/>
          <a:stretch/>
        </p:blipFill>
        <p:spPr>
          <a:xfrm>
            <a:off x="2362320" y="3657600"/>
            <a:ext cx="228600" cy="177840"/>
          </a:xfrm>
          <a:prstGeom prst="rect">
            <a:avLst/>
          </a:prstGeom>
          <a:ln w="0">
            <a:noFill/>
          </a:ln>
        </p:spPr>
      </p:pic>
      <p:pic>
        <p:nvPicPr>
          <p:cNvPr id="603" name="" descr=""/>
          <p:cNvPicPr/>
          <p:nvPr/>
        </p:nvPicPr>
        <p:blipFill>
          <a:blip r:embed="rId12"/>
          <a:stretch/>
        </p:blipFill>
        <p:spPr>
          <a:xfrm>
            <a:off x="1600200" y="3352680"/>
            <a:ext cx="228600" cy="177840"/>
          </a:xfrm>
          <a:prstGeom prst="rect">
            <a:avLst/>
          </a:prstGeom>
          <a:ln w="0">
            <a:noFill/>
          </a:ln>
        </p:spPr>
      </p:pic>
      <p:pic>
        <p:nvPicPr>
          <p:cNvPr id="604" name="" descr=""/>
          <p:cNvPicPr/>
          <p:nvPr/>
        </p:nvPicPr>
        <p:blipFill>
          <a:blip r:embed="rId13"/>
          <a:stretch/>
        </p:blipFill>
        <p:spPr>
          <a:xfrm>
            <a:off x="1676520" y="2057400"/>
            <a:ext cx="228600" cy="177840"/>
          </a:xfrm>
          <a:prstGeom prst="rect">
            <a:avLst/>
          </a:prstGeom>
          <a:ln w="0">
            <a:noFill/>
          </a:ln>
        </p:spPr>
      </p:pic>
      <p:pic>
        <p:nvPicPr>
          <p:cNvPr id="605" name="" descr=""/>
          <p:cNvPicPr/>
          <p:nvPr/>
        </p:nvPicPr>
        <p:blipFill>
          <a:blip r:embed="rId14"/>
          <a:stretch/>
        </p:blipFill>
        <p:spPr>
          <a:xfrm>
            <a:off x="1447920" y="1523880"/>
            <a:ext cx="228600" cy="177840"/>
          </a:xfrm>
          <a:prstGeom prst="rect">
            <a:avLst/>
          </a:prstGeom>
          <a:ln w="0">
            <a:noFill/>
          </a:ln>
        </p:spPr>
      </p:pic>
      <p:pic>
        <p:nvPicPr>
          <p:cNvPr id="606" name="" descr=""/>
          <p:cNvPicPr/>
          <p:nvPr/>
        </p:nvPicPr>
        <p:blipFill>
          <a:blip r:embed="rId15"/>
          <a:stretch/>
        </p:blipFill>
        <p:spPr>
          <a:xfrm>
            <a:off x="1828800" y="1676520"/>
            <a:ext cx="228600" cy="177840"/>
          </a:xfrm>
          <a:prstGeom prst="rect">
            <a:avLst/>
          </a:prstGeom>
          <a:ln w="0">
            <a:noFill/>
          </a:ln>
        </p:spPr>
      </p:pic>
      <p:pic>
        <p:nvPicPr>
          <p:cNvPr id="607" name="" descr=""/>
          <p:cNvPicPr/>
          <p:nvPr/>
        </p:nvPicPr>
        <p:blipFill>
          <a:blip r:embed="rId16"/>
          <a:stretch/>
        </p:blipFill>
        <p:spPr>
          <a:xfrm>
            <a:off x="2438280" y="1295280"/>
            <a:ext cx="228600" cy="177840"/>
          </a:xfrm>
          <a:prstGeom prst="rect">
            <a:avLst/>
          </a:prstGeom>
          <a:ln w="0">
            <a:noFill/>
          </a:ln>
        </p:spPr>
      </p:pic>
      <p:pic>
        <p:nvPicPr>
          <p:cNvPr id="608" name="" descr=""/>
          <p:cNvPicPr/>
          <p:nvPr/>
        </p:nvPicPr>
        <p:blipFill>
          <a:blip r:embed="rId17"/>
          <a:stretch/>
        </p:blipFill>
        <p:spPr>
          <a:xfrm>
            <a:off x="2590920" y="2057400"/>
            <a:ext cx="228600" cy="177840"/>
          </a:xfrm>
          <a:prstGeom prst="rect">
            <a:avLst/>
          </a:prstGeom>
          <a:ln w="0">
            <a:noFill/>
          </a:ln>
        </p:spPr>
      </p:pic>
      <p:pic>
        <p:nvPicPr>
          <p:cNvPr id="609" name="" descr=""/>
          <p:cNvPicPr/>
          <p:nvPr/>
        </p:nvPicPr>
        <p:blipFill>
          <a:blip r:embed="rId18"/>
          <a:stretch/>
        </p:blipFill>
        <p:spPr>
          <a:xfrm>
            <a:off x="2743200" y="1752480"/>
            <a:ext cx="228600" cy="177840"/>
          </a:xfrm>
          <a:prstGeom prst="rect">
            <a:avLst/>
          </a:prstGeom>
          <a:ln w="0">
            <a:noFill/>
          </a:ln>
        </p:spPr>
      </p:pic>
      <p:pic>
        <p:nvPicPr>
          <p:cNvPr id="610" name="" descr=""/>
          <p:cNvPicPr/>
          <p:nvPr/>
        </p:nvPicPr>
        <p:blipFill>
          <a:blip r:embed="rId19"/>
          <a:stretch/>
        </p:blipFill>
        <p:spPr>
          <a:xfrm>
            <a:off x="2819520" y="3174840"/>
            <a:ext cx="228600" cy="177840"/>
          </a:xfrm>
          <a:prstGeom prst="rect">
            <a:avLst/>
          </a:prstGeom>
          <a:ln w="0">
            <a:noFill/>
          </a:ln>
        </p:spPr>
      </p:pic>
      <p:pic>
        <p:nvPicPr>
          <p:cNvPr id="611" name="" descr=""/>
          <p:cNvPicPr/>
          <p:nvPr/>
        </p:nvPicPr>
        <p:blipFill>
          <a:blip r:embed="rId20"/>
          <a:stretch/>
        </p:blipFill>
        <p:spPr>
          <a:xfrm>
            <a:off x="2971800" y="2362320"/>
            <a:ext cx="228600" cy="177840"/>
          </a:xfrm>
          <a:prstGeom prst="rect">
            <a:avLst/>
          </a:prstGeom>
          <a:ln w="0">
            <a:noFill/>
          </a:ln>
        </p:spPr>
      </p:pic>
      <p:pic>
        <p:nvPicPr>
          <p:cNvPr id="612" name="" descr=""/>
          <p:cNvPicPr/>
          <p:nvPr/>
        </p:nvPicPr>
        <p:blipFill>
          <a:blip r:embed="rId21"/>
          <a:stretch/>
        </p:blipFill>
        <p:spPr>
          <a:xfrm>
            <a:off x="3581280" y="3657600"/>
            <a:ext cx="228600" cy="177840"/>
          </a:xfrm>
          <a:prstGeom prst="rect">
            <a:avLst/>
          </a:prstGeom>
          <a:ln w="0">
            <a:noFill/>
          </a:ln>
        </p:spPr>
      </p:pic>
      <p:pic>
        <p:nvPicPr>
          <p:cNvPr id="613" name="" descr=""/>
          <p:cNvPicPr/>
          <p:nvPr/>
        </p:nvPicPr>
        <p:blipFill>
          <a:blip r:embed="rId22"/>
          <a:stretch/>
        </p:blipFill>
        <p:spPr>
          <a:xfrm>
            <a:off x="1143000" y="1905120"/>
            <a:ext cx="228600" cy="177840"/>
          </a:xfrm>
          <a:prstGeom prst="rect">
            <a:avLst/>
          </a:prstGeom>
          <a:ln w="0">
            <a:noFill/>
          </a:ln>
        </p:spPr>
      </p:pic>
      <p:pic>
        <p:nvPicPr>
          <p:cNvPr id="614" name="" descr=""/>
          <p:cNvPicPr/>
          <p:nvPr/>
        </p:nvPicPr>
        <p:blipFill>
          <a:blip r:embed="rId23"/>
          <a:stretch/>
        </p:blipFill>
        <p:spPr>
          <a:xfrm>
            <a:off x="1371600" y="2743200"/>
            <a:ext cx="228600" cy="177840"/>
          </a:xfrm>
          <a:prstGeom prst="rect">
            <a:avLst/>
          </a:prstGeom>
          <a:ln w="0">
            <a:noFill/>
          </a:ln>
        </p:spPr>
      </p:pic>
      <p:pic>
        <p:nvPicPr>
          <p:cNvPr id="615" name="" descr=""/>
          <p:cNvPicPr/>
          <p:nvPr/>
        </p:nvPicPr>
        <p:blipFill>
          <a:blip r:embed="rId24"/>
          <a:stretch/>
        </p:blipFill>
        <p:spPr>
          <a:xfrm>
            <a:off x="1143000" y="3200400"/>
            <a:ext cx="228600" cy="177840"/>
          </a:xfrm>
          <a:prstGeom prst="rect">
            <a:avLst/>
          </a:prstGeom>
          <a:ln w="0">
            <a:noFill/>
          </a:ln>
        </p:spPr>
      </p:pic>
      <p:pic>
        <p:nvPicPr>
          <p:cNvPr id="616" name="" descr=""/>
          <p:cNvPicPr/>
          <p:nvPr/>
        </p:nvPicPr>
        <p:blipFill>
          <a:blip r:embed="rId25"/>
          <a:stretch/>
        </p:blipFill>
        <p:spPr>
          <a:xfrm>
            <a:off x="2819520" y="3174840"/>
            <a:ext cx="228600" cy="177840"/>
          </a:xfrm>
          <a:prstGeom prst="rect">
            <a:avLst/>
          </a:prstGeom>
          <a:ln w="0">
            <a:noFill/>
          </a:ln>
        </p:spPr>
      </p:pic>
      <p:pic>
        <p:nvPicPr>
          <p:cNvPr id="617" name="" descr=""/>
          <p:cNvPicPr/>
          <p:nvPr/>
        </p:nvPicPr>
        <p:blipFill>
          <a:blip r:embed="rId26"/>
          <a:stretch/>
        </p:blipFill>
        <p:spPr>
          <a:xfrm>
            <a:off x="1600200" y="3733920"/>
            <a:ext cx="228600" cy="177840"/>
          </a:xfrm>
          <a:prstGeom prst="rect">
            <a:avLst/>
          </a:prstGeom>
          <a:ln w="0">
            <a:noFill/>
          </a:ln>
        </p:spPr>
      </p:pic>
      <p:sp>
        <p:nvSpPr>
          <p:cNvPr id="618" name=""/>
          <p:cNvSpPr/>
          <p:nvPr/>
        </p:nvSpPr>
        <p:spPr>
          <a:xfrm>
            <a:off x="2152800" y="2505240"/>
            <a:ext cx="304560" cy="304560"/>
          </a:xfrm>
          <a:prstGeom prst="ellipse">
            <a:avLst/>
          </a:prstGeom>
          <a:noFill/>
          <a:ln w="190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9" name="" descr=""/>
          <p:cNvPicPr/>
          <p:nvPr/>
        </p:nvPicPr>
        <p:blipFill>
          <a:blip r:embed="rId27"/>
          <a:stretch/>
        </p:blipFill>
        <p:spPr>
          <a:xfrm>
            <a:off x="3809880" y="3124080"/>
            <a:ext cx="228600" cy="177840"/>
          </a:xfrm>
          <a:prstGeom prst="rect">
            <a:avLst/>
          </a:prstGeom>
          <a:ln w="0">
            <a:noFill/>
          </a:ln>
        </p:spPr>
      </p:pic>
      <p:pic>
        <p:nvPicPr>
          <p:cNvPr id="620" name="" descr=""/>
          <p:cNvPicPr/>
          <p:nvPr/>
        </p:nvPicPr>
        <p:blipFill>
          <a:blip r:embed="rId28"/>
          <a:stretch/>
        </p:blipFill>
        <p:spPr>
          <a:xfrm>
            <a:off x="3124080" y="3733920"/>
            <a:ext cx="228600" cy="177840"/>
          </a:xfrm>
          <a:prstGeom prst="rect">
            <a:avLst/>
          </a:prstGeom>
          <a:ln w="0">
            <a:noFill/>
          </a:ln>
        </p:spPr>
      </p:pic>
      <p:pic>
        <p:nvPicPr>
          <p:cNvPr id="621" name="" descr=""/>
          <p:cNvPicPr/>
          <p:nvPr/>
        </p:nvPicPr>
        <p:blipFill>
          <a:blip r:embed="rId29"/>
          <a:stretch/>
        </p:blipFill>
        <p:spPr>
          <a:xfrm>
            <a:off x="914400" y="3429000"/>
            <a:ext cx="228600" cy="177840"/>
          </a:xfrm>
          <a:prstGeom prst="rect">
            <a:avLst/>
          </a:prstGeom>
          <a:ln w="0">
            <a:noFill/>
          </a:ln>
        </p:spPr>
      </p:pic>
      <p:pic>
        <p:nvPicPr>
          <p:cNvPr id="622" name="" descr=""/>
          <p:cNvPicPr/>
          <p:nvPr/>
        </p:nvPicPr>
        <p:blipFill>
          <a:blip r:embed="rId30"/>
          <a:stretch/>
        </p:blipFill>
        <p:spPr>
          <a:xfrm>
            <a:off x="3124080" y="1752480"/>
            <a:ext cx="228600" cy="177840"/>
          </a:xfrm>
          <a:prstGeom prst="rect">
            <a:avLst/>
          </a:prstGeom>
          <a:ln w="0">
            <a:noFill/>
          </a:ln>
        </p:spPr>
      </p:pic>
      <p:pic>
        <p:nvPicPr>
          <p:cNvPr id="623" name="" descr=""/>
          <p:cNvPicPr/>
          <p:nvPr/>
        </p:nvPicPr>
        <p:blipFill>
          <a:blip r:embed="rId31"/>
          <a:stretch/>
        </p:blipFill>
        <p:spPr>
          <a:xfrm>
            <a:off x="3505320" y="1981080"/>
            <a:ext cx="228600" cy="177840"/>
          </a:xfrm>
          <a:prstGeom prst="rect">
            <a:avLst/>
          </a:prstGeom>
          <a:ln w="0">
            <a:noFill/>
          </a:ln>
        </p:spPr>
      </p:pic>
      <p:pic>
        <p:nvPicPr>
          <p:cNvPr id="624" name="" descr=""/>
          <p:cNvPicPr/>
          <p:nvPr/>
        </p:nvPicPr>
        <p:blipFill>
          <a:blip r:embed="rId32"/>
          <a:stretch/>
        </p:blipFill>
        <p:spPr>
          <a:xfrm>
            <a:off x="3886200" y="2666880"/>
            <a:ext cx="228600" cy="177840"/>
          </a:xfrm>
          <a:prstGeom prst="rect">
            <a:avLst/>
          </a:prstGeom>
          <a:ln w="0">
            <a:noFill/>
          </a:ln>
        </p:spPr>
      </p:pic>
      <p:pic>
        <p:nvPicPr>
          <p:cNvPr id="625" name="" descr=""/>
          <p:cNvPicPr/>
          <p:nvPr/>
        </p:nvPicPr>
        <p:blipFill>
          <a:blip r:embed="rId33"/>
          <a:stretch/>
        </p:blipFill>
        <p:spPr>
          <a:xfrm>
            <a:off x="533520" y="2514600"/>
            <a:ext cx="228600" cy="177840"/>
          </a:xfrm>
          <a:prstGeom prst="rect">
            <a:avLst/>
          </a:prstGeom>
          <a:ln w="0">
            <a:noFill/>
          </a:ln>
        </p:spPr>
      </p:pic>
      <p:pic>
        <p:nvPicPr>
          <p:cNvPr id="626" name="" descr=""/>
          <p:cNvPicPr/>
          <p:nvPr/>
        </p:nvPicPr>
        <p:blipFill>
          <a:blip r:embed="rId34"/>
          <a:stretch/>
        </p:blipFill>
        <p:spPr>
          <a:xfrm>
            <a:off x="762120" y="2209680"/>
            <a:ext cx="228600" cy="177840"/>
          </a:xfrm>
          <a:prstGeom prst="rect">
            <a:avLst/>
          </a:prstGeom>
          <a:ln w="0">
            <a:noFill/>
          </a:ln>
        </p:spPr>
      </p:pic>
      <p:sp>
        <p:nvSpPr>
          <p:cNvPr id="627" name=""/>
          <p:cNvSpPr/>
          <p:nvPr/>
        </p:nvSpPr>
        <p:spPr>
          <a:xfrm flipH="1">
            <a:off x="2057040" y="2590920"/>
            <a:ext cx="15228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 flipH="1">
            <a:off x="2057040" y="2743200"/>
            <a:ext cx="152280" cy="22860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2438280" y="2666880"/>
            <a:ext cx="152640" cy="7632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2590920" y="2819520"/>
            <a:ext cx="0" cy="30456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 flipV="1">
            <a:off x="2362320" y="2209320"/>
            <a:ext cx="304560" cy="30492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2666880" y="3276720"/>
            <a:ext cx="1526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3048120" y="3352680"/>
            <a:ext cx="152280" cy="763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 flipV="1">
            <a:off x="2971800" y="2971440"/>
            <a:ext cx="228600" cy="228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2819520" y="2209680"/>
            <a:ext cx="152280" cy="15264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2438280" y="3276720"/>
            <a:ext cx="76320" cy="380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 flipH="1">
            <a:off x="1752120" y="3124080"/>
            <a:ext cx="228600" cy="30492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 flipH="1" flipV="1">
            <a:off x="1752480" y="2285640"/>
            <a:ext cx="76320" cy="2286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 flipV="1">
            <a:off x="2743200" y="1904760"/>
            <a:ext cx="0" cy="1522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2971800" y="1828800"/>
            <a:ext cx="1522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 flipH="1" flipV="1">
            <a:off x="2590560" y="1447920"/>
            <a:ext cx="152280" cy="3045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3200400" y="2514600"/>
            <a:ext cx="1522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 flipH="1">
            <a:off x="1523520" y="2514600"/>
            <a:ext cx="304920" cy="2286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 flipV="1">
            <a:off x="1828800" y="1828440"/>
            <a:ext cx="76320" cy="228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 flipH="1" flipV="1">
            <a:off x="1371240" y="3276360"/>
            <a:ext cx="304920" cy="759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1752480" y="3533760"/>
            <a:ext cx="0" cy="228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 flipH="1">
            <a:off x="990360" y="3352680"/>
            <a:ext cx="152280" cy="763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200400" y="3581280"/>
            <a:ext cx="0" cy="152640"/>
          </a:xfrm>
          <a:prstGeom prst="line">
            <a:avLst/>
          </a:prstGeom>
          <a:ln w="93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3352680" y="3581280"/>
            <a:ext cx="228600" cy="76320"/>
          </a:xfrm>
          <a:prstGeom prst="line">
            <a:avLst/>
          </a:prstGeom>
          <a:ln w="93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3352680" y="1905120"/>
            <a:ext cx="152640" cy="152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 flipV="1">
            <a:off x="3276720" y="1371600"/>
            <a:ext cx="75960" cy="380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3581280" y="2590920"/>
            <a:ext cx="304920" cy="152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3962520" y="2819520"/>
            <a:ext cx="0" cy="380880"/>
          </a:xfrm>
          <a:prstGeom prst="line">
            <a:avLst/>
          </a:prstGeom>
          <a:ln w="93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 flipH="1" flipV="1">
            <a:off x="1294920" y="2057400"/>
            <a:ext cx="381240" cy="763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 flipH="1" flipV="1">
            <a:off x="1676160" y="1600200"/>
            <a:ext cx="152280" cy="763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647960" y="1218960"/>
            <a:ext cx="426708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verages periodic broadcast and lazy forward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 central controll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utonomous expans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 to 3-fold traffic reduction compared to expanding-ring 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raceful time-traffic tradeoff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= O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=O(1/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pagation step width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7" name=""/>
          <p:cNvSpPr/>
          <p:nvPr/>
        </p:nvSpPr>
        <p:spPr>
          <a:xfrm>
            <a:off x="1295280" y="2133720"/>
            <a:ext cx="381240" cy="75960"/>
          </a:xfrm>
          <a:prstGeom prst="line">
            <a:avLst/>
          </a:prstGeom>
          <a:ln w="93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 flipH="1" flipV="1">
            <a:off x="1142640" y="1599840"/>
            <a:ext cx="152280" cy="304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 flipH="1">
            <a:off x="837720" y="2033640"/>
            <a:ext cx="304920" cy="152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 flipV="1">
            <a:off x="1776240" y="1804680"/>
            <a:ext cx="76320" cy="228600"/>
          </a:xfrm>
          <a:prstGeom prst="line">
            <a:avLst/>
          </a:prstGeom>
          <a:ln w="93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 flipH="1" flipV="1">
            <a:off x="1652400" y="1668240"/>
            <a:ext cx="152280" cy="75960"/>
          </a:xfrm>
          <a:prstGeom prst="line">
            <a:avLst/>
          </a:prstGeom>
          <a:ln w="93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1836720" y="2262240"/>
            <a:ext cx="76320" cy="228600"/>
          </a:xfrm>
          <a:prstGeom prst="line">
            <a:avLst/>
          </a:prstGeom>
          <a:ln w="93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1539360" y="2583000"/>
            <a:ext cx="304920" cy="228600"/>
          </a:xfrm>
          <a:prstGeom prst="line">
            <a:avLst/>
          </a:prstGeom>
          <a:ln w="93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2065320" y="2530440"/>
            <a:ext cx="152280" cy="0"/>
          </a:xfrm>
          <a:prstGeom prst="line">
            <a:avLst/>
          </a:prstGeom>
          <a:ln w="93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 flipV="1">
            <a:off x="2362320" y="2285640"/>
            <a:ext cx="304560" cy="304920"/>
          </a:xfrm>
          <a:prstGeom prst="line">
            <a:avLst/>
          </a:prstGeom>
          <a:ln w="93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 flipH="1">
            <a:off x="2089080" y="2795760"/>
            <a:ext cx="152640" cy="228600"/>
          </a:xfrm>
          <a:prstGeom prst="line">
            <a:avLst/>
          </a:prstGeom>
          <a:ln w="93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 flipH="1">
            <a:off x="1752480" y="3124080"/>
            <a:ext cx="152640" cy="228600"/>
          </a:xfrm>
          <a:prstGeom prst="line">
            <a:avLst/>
          </a:prstGeom>
          <a:ln w="93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2438280" y="2590920"/>
            <a:ext cx="152640" cy="75960"/>
          </a:xfrm>
          <a:prstGeom prst="line">
            <a:avLst/>
          </a:prstGeom>
          <a:ln w="93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2666880" y="2819520"/>
            <a:ext cx="0" cy="380880"/>
          </a:xfrm>
          <a:prstGeom prst="line">
            <a:avLst/>
          </a:prstGeom>
          <a:ln w="93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2819520" y="2133720"/>
            <a:ext cx="228600" cy="228600"/>
          </a:xfrm>
          <a:prstGeom prst="line">
            <a:avLst/>
          </a:prstGeom>
          <a:ln w="93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 flipV="1">
            <a:off x="2795760" y="1904760"/>
            <a:ext cx="0" cy="152280"/>
          </a:xfrm>
          <a:prstGeom prst="line">
            <a:avLst/>
          </a:prstGeom>
          <a:ln w="93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2" name="" descr=""/>
          <p:cNvPicPr/>
          <p:nvPr/>
        </p:nvPicPr>
        <p:blipFill>
          <a:blip r:embed="rId35"/>
          <a:stretch/>
        </p:blipFill>
        <p:spPr>
          <a:xfrm>
            <a:off x="457200" y="1676520"/>
            <a:ext cx="228600" cy="177840"/>
          </a:xfrm>
          <a:prstGeom prst="rect">
            <a:avLst/>
          </a:prstGeom>
          <a:ln w="0">
            <a:noFill/>
          </a:ln>
        </p:spPr>
      </p:pic>
      <p:sp>
        <p:nvSpPr>
          <p:cNvPr id="673" name=""/>
          <p:cNvSpPr/>
          <p:nvPr/>
        </p:nvSpPr>
        <p:spPr>
          <a:xfrm flipH="1" flipV="1">
            <a:off x="1371240" y="3200400"/>
            <a:ext cx="304920" cy="76320"/>
          </a:xfrm>
          <a:prstGeom prst="line">
            <a:avLst/>
          </a:prstGeom>
          <a:ln w="93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1828800" y="3505320"/>
            <a:ext cx="0" cy="228600"/>
          </a:xfrm>
          <a:prstGeom prst="line">
            <a:avLst/>
          </a:prstGeom>
          <a:ln w="93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 flipH="1">
            <a:off x="1066680" y="3376440"/>
            <a:ext cx="152640" cy="76320"/>
          </a:xfrm>
          <a:prstGeom prst="line">
            <a:avLst/>
          </a:prstGeom>
          <a:ln w="93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 flipH="1">
            <a:off x="2485800" y="3305160"/>
            <a:ext cx="75960" cy="380880"/>
          </a:xfrm>
          <a:prstGeom prst="line">
            <a:avLst/>
          </a:prstGeom>
          <a:ln w="93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2606760" y="3328920"/>
            <a:ext cx="228600" cy="0"/>
          </a:xfrm>
          <a:prstGeom prst="line">
            <a:avLst/>
          </a:prstGeom>
          <a:ln w="93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 flipH="1" flipV="1">
            <a:off x="2666880" y="1447920"/>
            <a:ext cx="152640" cy="304560"/>
          </a:xfrm>
          <a:prstGeom prst="line">
            <a:avLst/>
          </a:prstGeom>
          <a:ln w="93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2948040" y="1905120"/>
            <a:ext cx="228600" cy="0"/>
          </a:xfrm>
          <a:prstGeom prst="line">
            <a:avLst/>
          </a:prstGeom>
          <a:ln w="93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 flipV="1">
            <a:off x="3200400" y="1371600"/>
            <a:ext cx="76320" cy="380880"/>
          </a:xfrm>
          <a:prstGeom prst="line">
            <a:avLst/>
          </a:prstGeom>
          <a:ln w="93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3376440" y="1844640"/>
            <a:ext cx="152640" cy="152280"/>
          </a:xfrm>
          <a:prstGeom prst="line">
            <a:avLst/>
          </a:prstGeom>
          <a:ln w="93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3200400" y="2438280"/>
            <a:ext cx="152280" cy="0"/>
          </a:xfrm>
          <a:prstGeom prst="line">
            <a:avLst/>
          </a:prstGeom>
          <a:ln w="93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3581280" y="2514600"/>
            <a:ext cx="304920" cy="152280"/>
          </a:xfrm>
          <a:prstGeom prst="line">
            <a:avLst/>
          </a:prstGeom>
          <a:ln w="93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3886200" y="2819520"/>
            <a:ext cx="0" cy="304560"/>
          </a:xfrm>
          <a:prstGeom prst="line">
            <a:avLst/>
          </a:prstGeom>
          <a:ln w="93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 flipV="1">
            <a:off x="3024360" y="2987280"/>
            <a:ext cx="228600" cy="228600"/>
          </a:xfrm>
          <a:prstGeom prst="line">
            <a:avLst/>
          </a:prstGeom>
          <a:ln w="93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3011400" y="3384720"/>
            <a:ext cx="152640" cy="75960"/>
          </a:xfrm>
          <a:prstGeom prst="line">
            <a:avLst/>
          </a:prstGeom>
          <a:ln w="93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3352680" y="3505320"/>
            <a:ext cx="304920" cy="152280"/>
          </a:xfrm>
          <a:prstGeom prst="line">
            <a:avLst/>
          </a:prstGeom>
          <a:ln w="93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3124080" y="3581280"/>
            <a:ext cx="0" cy="152640"/>
          </a:xfrm>
          <a:prstGeom prst="line">
            <a:avLst/>
          </a:prstGeom>
          <a:ln w="93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9" name=""/>
          <p:cNvGrpSpPr/>
          <p:nvPr/>
        </p:nvGrpSpPr>
        <p:grpSpPr>
          <a:xfrm>
            <a:off x="685800" y="3962520"/>
            <a:ext cx="7344360" cy="2423880"/>
            <a:chOff x="685800" y="3962520"/>
            <a:chExt cx="7344360" cy="2423880"/>
          </a:xfrm>
        </p:grpSpPr>
        <p:grpSp>
          <p:nvGrpSpPr>
            <p:cNvPr id="690" name=""/>
            <p:cNvGrpSpPr/>
            <p:nvPr/>
          </p:nvGrpSpPr>
          <p:grpSpPr>
            <a:xfrm>
              <a:off x="839520" y="3962520"/>
              <a:ext cx="7190640" cy="2423880"/>
              <a:chOff x="839520" y="3962520"/>
              <a:chExt cx="7190640" cy="2423880"/>
            </a:xfrm>
          </p:grpSpPr>
          <p:pic>
            <p:nvPicPr>
              <p:cNvPr id="691" name="" descr=""/>
              <p:cNvPicPr/>
              <p:nvPr/>
            </p:nvPicPr>
            <p:blipFill>
              <a:blip r:embed="rId36"/>
              <a:stretch/>
            </p:blipFill>
            <p:spPr>
              <a:xfrm>
                <a:off x="839520" y="3962520"/>
                <a:ext cx="5486040" cy="2423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2" name=""/>
              <p:cNvSpPr/>
              <p:nvPr/>
            </p:nvSpPr>
            <p:spPr>
              <a:xfrm>
                <a:off x="6308640" y="4852800"/>
                <a:ext cx="1721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z</a:t>
                </a:r>
                <a:r>
                  <a:rPr b="0" i="1" lang="en-US" sz="1400" spc="-1" strike="noStrike">
                    <a:solidFill>
                      <a:srgbClr val="000000"/>
                    </a:solidFill>
                    <a:latin typeface="Tahoma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: # of responder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3" name=""/>
            <p:cNvSpPr/>
            <p:nvPr/>
          </p:nvSpPr>
          <p:spPr>
            <a:xfrm rot="10800000">
              <a:off x="685800" y="4210200"/>
              <a:ext cx="378360" cy="1996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ahoma"/>
                </a:rPr>
                <a:t># of forwarded packet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4" name=""/>
          <p:cNvGrpSpPr/>
          <p:nvPr/>
        </p:nvGrpSpPr>
        <p:grpSpPr>
          <a:xfrm>
            <a:off x="552600" y="1162080"/>
            <a:ext cx="3790800" cy="2800440"/>
            <a:chOff x="552600" y="1162080"/>
            <a:chExt cx="3790800" cy="2800440"/>
          </a:xfrm>
        </p:grpSpPr>
        <p:sp>
          <p:nvSpPr>
            <p:cNvPr id="695" name=""/>
            <p:cNvSpPr/>
            <p:nvPr/>
          </p:nvSpPr>
          <p:spPr>
            <a:xfrm>
              <a:off x="2666880" y="2743200"/>
              <a:ext cx="1676520" cy="1219320"/>
            </a:xfrm>
            <a:custGeom>
              <a:avLst/>
              <a:gdLst/>
              <a:ahLst/>
              <a:rect l="l" t="t" r="r" b="b"/>
              <a:pathLst>
                <a:path w="1056" h="768">
                  <a:moveTo>
                    <a:pt x="0" y="768"/>
                  </a:moveTo>
                  <a:cubicBezTo>
                    <a:pt x="80" y="688"/>
                    <a:pt x="160" y="608"/>
                    <a:pt x="240" y="576"/>
                  </a:cubicBezTo>
                  <a:cubicBezTo>
                    <a:pt x="320" y="544"/>
                    <a:pt x="416" y="592"/>
                    <a:pt x="480" y="576"/>
                  </a:cubicBezTo>
                  <a:cubicBezTo>
                    <a:pt x="544" y="560"/>
                    <a:pt x="600" y="528"/>
                    <a:pt x="624" y="480"/>
                  </a:cubicBezTo>
                  <a:cubicBezTo>
                    <a:pt x="648" y="432"/>
                    <a:pt x="608" y="344"/>
                    <a:pt x="624" y="288"/>
                  </a:cubicBezTo>
                  <a:cubicBezTo>
                    <a:pt x="640" y="232"/>
                    <a:pt x="664" y="176"/>
                    <a:pt x="720" y="144"/>
                  </a:cubicBezTo>
                  <a:cubicBezTo>
                    <a:pt x="776" y="112"/>
                    <a:pt x="904" y="120"/>
                    <a:pt x="960" y="96"/>
                  </a:cubicBezTo>
                  <a:cubicBezTo>
                    <a:pt x="1016" y="72"/>
                    <a:pt x="1040" y="16"/>
                    <a:pt x="105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552600" y="1162080"/>
              <a:ext cx="819000" cy="1811160"/>
            </a:xfrm>
            <a:custGeom>
              <a:avLst/>
              <a:gdLst/>
              <a:ahLst/>
              <a:rect l="l" t="t" r="r" b="b"/>
              <a:pathLst>
                <a:path w="516" h="1141">
                  <a:moveTo>
                    <a:pt x="136" y="1141"/>
                  </a:moveTo>
                  <a:cubicBezTo>
                    <a:pt x="145" y="1100"/>
                    <a:pt x="207" y="965"/>
                    <a:pt x="185" y="894"/>
                  </a:cubicBezTo>
                  <a:cubicBezTo>
                    <a:pt x="163" y="823"/>
                    <a:pt x="4" y="805"/>
                    <a:pt x="2" y="716"/>
                  </a:cubicBezTo>
                  <a:cubicBezTo>
                    <a:pt x="0" y="627"/>
                    <a:pt x="134" y="471"/>
                    <a:pt x="174" y="361"/>
                  </a:cubicBezTo>
                  <a:cubicBezTo>
                    <a:pt x="214" y="251"/>
                    <a:pt x="187" y="108"/>
                    <a:pt x="244" y="54"/>
                  </a:cubicBezTo>
                  <a:cubicBezTo>
                    <a:pt x="301" y="0"/>
                    <a:pt x="459" y="40"/>
                    <a:pt x="516" y="3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7" name=""/>
          <p:cNvSpPr/>
          <p:nvPr/>
        </p:nvSpPr>
        <p:spPr>
          <a:xfrm>
            <a:off x="1079640" y="1625760"/>
            <a:ext cx="2222280" cy="2044440"/>
          </a:xfrm>
          <a:custGeom>
            <a:avLst/>
            <a:gdLst/>
            <a:ahLst/>
            <a:rect l="l" t="t" r="r" b="b"/>
            <a:pathLst>
              <a:path w="1400" h="1288">
                <a:moveTo>
                  <a:pt x="40" y="752"/>
                </a:moveTo>
                <a:cubicBezTo>
                  <a:pt x="80" y="792"/>
                  <a:pt x="240" y="872"/>
                  <a:pt x="280" y="944"/>
                </a:cubicBezTo>
                <a:cubicBezTo>
                  <a:pt x="320" y="1016"/>
                  <a:pt x="232" y="1128"/>
                  <a:pt x="280" y="1184"/>
                </a:cubicBezTo>
                <a:cubicBezTo>
                  <a:pt x="328" y="1240"/>
                  <a:pt x="480" y="1288"/>
                  <a:pt x="568" y="1280"/>
                </a:cubicBezTo>
                <a:cubicBezTo>
                  <a:pt x="656" y="1272"/>
                  <a:pt x="736" y="1160"/>
                  <a:pt x="808" y="1136"/>
                </a:cubicBezTo>
                <a:cubicBezTo>
                  <a:pt x="880" y="1112"/>
                  <a:pt x="952" y="1176"/>
                  <a:pt x="1000" y="1136"/>
                </a:cubicBezTo>
                <a:cubicBezTo>
                  <a:pt x="1048" y="1096"/>
                  <a:pt x="1040" y="976"/>
                  <a:pt x="1096" y="896"/>
                </a:cubicBezTo>
                <a:cubicBezTo>
                  <a:pt x="1152" y="816"/>
                  <a:pt x="1288" y="736"/>
                  <a:pt x="1336" y="656"/>
                </a:cubicBezTo>
                <a:cubicBezTo>
                  <a:pt x="1384" y="576"/>
                  <a:pt x="1400" y="472"/>
                  <a:pt x="1384" y="416"/>
                </a:cubicBezTo>
                <a:cubicBezTo>
                  <a:pt x="1368" y="360"/>
                  <a:pt x="1264" y="360"/>
                  <a:pt x="1240" y="320"/>
                </a:cubicBezTo>
                <a:cubicBezTo>
                  <a:pt x="1216" y="280"/>
                  <a:pt x="1248" y="224"/>
                  <a:pt x="1240" y="176"/>
                </a:cubicBezTo>
                <a:cubicBezTo>
                  <a:pt x="1232" y="128"/>
                  <a:pt x="1240" y="56"/>
                  <a:pt x="1192" y="32"/>
                </a:cubicBezTo>
                <a:cubicBezTo>
                  <a:pt x="1144" y="8"/>
                  <a:pt x="1008" y="0"/>
                  <a:pt x="952" y="32"/>
                </a:cubicBezTo>
                <a:cubicBezTo>
                  <a:pt x="896" y="64"/>
                  <a:pt x="896" y="160"/>
                  <a:pt x="856" y="224"/>
                </a:cubicBezTo>
                <a:cubicBezTo>
                  <a:pt x="816" y="288"/>
                  <a:pt x="768" y="408"/>
                  <a:pt x="712" y="416"/>
                </a:cubicBezTo>
                <a:cubicBezTo>
                  <a:pt x="656" y="424"/>
                  <a:pt x="576" y="304"/>
                  <a:pt x="520" y="272"/>
                </a:cubicBezTo>
                <a:cubicBezTo>
                  <a:pt x="464" y="240"/>
                  <a:pt x="424" y="200"/>
                  <a:pt x="376" y="224"/>
                </a:cubicBezTo>
                <a:cubicBezTo>
                  <a:pt x="328" y="248"/>
                  <a:pt x="264" y="368"/>
                  <a:pt x="232" y="416"/>
                </a:cubicBezTo>
                <a:cubicBezTo>
                  <a:pt x="200" y="464"/>
                  <a:pt x="216" y="464"/>
                  <a:pt x="184" y="512"/>
                </a:cubicBezTo>
                <a:cubicBezTo>
                  <a:pt x="152" y="560"/>
                  <a:pt x="64" y="664"/>
                  <a:pt x="40" y="704"/>
                </a:cubicBezTo>
                <a:cubicBezTo>
                  <a:pt x="16" y="744"/>
                  <a:pt x="0" y="712"/>
                  <a:pt x="40" y="752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8" name="" descr=""/>
          <p:cNvPicPr/>
          <p:nvPr/>
        </p:nvPicPr>
        <p:blipFill>
          <a:blip r:embed="rId37"/>
          <a:stretch/>
        </p:blipFill>
        <p:spPr>
          <a:xfrm>
            <a:off x="4114800" y="3809880"/>
            <a:ext cx="228600" cy="177840"/>
          </a:xfrm>
          <a:prstGeom prst="rect">
            <a:avLst/>
          </a:prstGeom>
          <a:ln w="0">
            <a:noFill/>
          </a:ln>
        </p:spPr>
      </p:pic>
      <p:pic>
        <p:nvPicPr>
          <p:cNvPr id="699" name="" descr=""/>
          <p:cNvPicPr/>
          <p:nvPr/>
        </p:nvPicPr>
        <p:blipFill>
          <a:blip r:embed="rId38"/>
          <a:stretch/>
        </p:blipFill>
        <p:spPr>
          <a:xfrm>
            <a:off x="4343400" y="3251160"/>
            <a:ext cx="228600" cy="177840"/>
          </a:xfrm>
          <a:prstGeom prst="rect">
            <a:avLst/>
          </a:prstGeom>
          <a:ln w="0">
            <a:noFill/>
          </a:ln>
        </p:spPr>
      </p:pic>
      <p:sp>
        <p:nvSpPr>
          <p:cNvPr id="700" name=""/>
          <p:cNvSpPr/>
          <p:nvPr/>
        </p:nvSpPr>
        <p:spPr>
          <a:xfrm>
            <a:off x="2130480" y="220968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375480" y="20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 flipV="1">
            <a:off x="914400" y="2057040"/>
            <a:ext cx="304920" cy="152280"/>
          </a:xfrm>
          <a:prstGeom prst="line">
            <a:avLst/>
          </a:prstGeom>
          <a:ln w="93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 flipH="1" flipV="1">
            <a:off x="1203120" y="1531440"/>
            <a:ext cx="152280" cy="304920"/>
          </a:xfrm>
          <a:prstGeom prst="line">
            <a:avLst/>
          </a:prstGeom>
          <a:ln w="93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 flipH="1">
            <a:off x="609480" y="2362320"/>
            <a:ext cx="152640" cy="152280"/>
          </a:xfrm>
          <a:prstGeom prst="line">
            <a:avLst/>
          </a:prstGeom>
          <a:ln w="93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 flipH="1" flipV="1">
            <a:off x="609480" y="1905120"/>
            <a:ext cx="152640" cy="304560"/>
          </a:xfrm>
          <a:prstGeom prst="line">
            <a:avLst/>
          </a:prstGeom>
          <a:ln w="93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2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85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8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1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mph" presetID="35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294" dur="2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mph" presetID="35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296" dur="2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mph" presetID="35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298" dur="2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mph" presetID="35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300" dur="2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05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8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1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14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00"/>
                            </p:stCondLst>
                            <p:childTnLst>
                              <p:par>
                                <p:cTn id="316" nodeType="after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1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8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24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7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8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30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3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35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42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45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48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51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4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7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0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3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66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500"/>
                            </p:stCondLst>
                            <p:childTnLst>
                              <p:par>
                                <p:cTn id="368" nodeType="afterEffect" fill="hold" presetClass="emph" presetID="35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369" dur="20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nodeType="withEffect" fill="hold" presetClass="emph" presetID="35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371" dur="2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2" nodeType="withEffect" fill="hold" presetClass="emph" presetID="35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373" dur="2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nodeType="withEffect" fill="hold" presetClass="emph" presetID="35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375" dur="20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6" nodeType="withEffect" fill="hold" presetClass="emph" presetID="35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377" dur="20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8" nodeType="withEffect" fill="hold" presetClass="emph" presetID="35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379" dur="2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0" nodeType="withEffect" fill="hold" presetClass="emph" presetID="35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381" dur="2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2" nodeType="withEffect" fill="hold" presetClass="emph" presetID="35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383" dur="2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4" nodeType="withEffect" fill="hold" presetClass="emph" presetID="35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385" dur="2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0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93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96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99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02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5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8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11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4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500"/>
                            </p:stCondLst>
                            <p:childTnLst>
                              <p:par>
                                <p:cTn id="416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8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18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21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8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2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7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0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8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33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6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8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39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2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4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6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51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54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500"/>
                            </p:stCondLst>
                            <p:childTnLst>
                              <p:par>
                                <p:cTn id="459" nodeType="afterEffect" fill="hold" presetClass="entr" presetID="18" presetSubtype="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1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8" presetSubtype="9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64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1200"/>
                            </p:stCondLst>
                            <p:childTnLst>
                              <p:par>
                                <p:cTn id="466" nodeType="afterEffect" fill="hold" presetClass="entr" presetID="18" presetSubtype="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68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8" presetSubtype="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1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1900"/>
                            </p:stCondLst>
                            <p:childTnLst>
                              <p:par>
                                <p:cTn id="473" nodeType="afterEffect" fill="hold" presetClass="entr" presetID="18" presetSubtype="9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75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18" presetSubtype="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8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8" presetSubtype="1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1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2600"/>
                            </p:stCondLst>
                            <p:childTnLst>
                              <p:par>
                                <p:cTn id="483" nodeType="afterEffect" fill="hold" presetClass="entr" presetID="18" presetSubtype="1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5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18" presetSubtype="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88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18" presetSubtype="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91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3300"/>
                            </p:stCondLst>
                            <p:childTnLst>
                              <p:par>
                                <p:cTn id="493" nodeType="afterEffect" fill="hold" presetClass="entr" presetID="18" presetSubtype="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95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98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1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4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9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12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5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500"/>
                            </p:stCondLst>
                            <p:childTnLst>
                              <p:par>
                                <p:cTn id="517" nodeType="afterEffect" fill="hold" presetClass="entr" presetID="18" presetSubtype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19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18" presetSubtype="1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2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18" presetSubtype="1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5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18" presetSubtype="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28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18" presetSubtype="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31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18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34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18" presetSubtype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37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1500"/>
                            </p:stCondLst>
                            <p:childTnLst>
                              <p:par>
                                <p:cTn id="539" nodeType="afterEffect" fill="hold" presetClass="entr" presetID="18" presetSubtype="1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1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18" presetSubtype="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44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18" presetSubtype="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47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18" presetSubtype="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50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18" presetSubtype="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53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18" presetSubtype="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56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2200"/>
                            </p:stCondLst>
                            <p:childTnLst>
                              <p:par>
                                <p:cTn id="558" nodeType="afterEffect" fill="hold" presetClass="entr" presetID="18" presetSubtype="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60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18" presetSubtype="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63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18" presetSubtype="1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6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1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andomized Cach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acket to be cached per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7480" indent="-267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79240" indent="-222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iven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1360" indent="-178200">
              <a:lnSpc>
                <a:spcPct val="120000"/>
              </a:lnSpc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groups, {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…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, with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having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members and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requests (all uniformly distributed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891360" indent="-17820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tal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cacheable packe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891360" indent="-17820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9240" indent="-222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nimize: total traffic to fulfill all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79240" indent="-222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lution: # of caches f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8" name=""/>
              <p:cNvSpPr txBox="1"/>
              <p:nvPr/>
            </p:nvSpPr>
            <p:spPr>
              <a:xfrm>
                <a:off x="4098960" y="4032360"/>
                <a:ext cx="25066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O</m:t>
                    </m:r>
                    <m:r>
                      <m:t xml:space="preserve">(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rad>
                    <m:r>
                      <m:t xml:space="preserve">−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09" name=""/>
          <p:cNvSpPr/>
          <p:nvPr/>
        </p:nvSpPr>
        <p:spPr>
          <a:xfrm>
            <a:off x="380880" y="4495680"/>
            <a:ext cx="77724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-line poli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ches the latest forwarded code pac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mics the middle point between linear and uniform poli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0" name=""/>
          <p:cNvGrpSpPr/>
          <p:nvPr/>
        </p:nvGrpSpPr>
        <p:grpSpPr>
          <a:xfrm>
            <a:off x="5029200" y="3689280"/>
            <a:ext cx="3435840" cy="959040"/>
            <a:chOff x="5029200" y="3689280"/>
            <a:chExt cx="3435840" cy="959040"/>
          </a:xfrm>
        </p:grpSpPr>
        <p:sp>
          <p:nvSpPr>
            <p:cNvPr id="711" name=""/>
            <p:cNvSpPr/>
            <p:nvPr/>
          </p:nvSpPr>
          <p:spPr>
            <a:xfrm>
              <a:off x="5029200" y="3886200"/>
              <a:ext cx="990720" cy="762120"/>
            </a:xfrm>
            <a:prstGeom prst="ellipse">
              <a:avLst/>
            </a:prstGeom>
            <a:noFill/>
            <a:ln w="284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 flipH="1">
              <a:off x="5943600" y="3886200"/>
              <a:ext cx="380880" cy="152280"/>
            </a:xfrm>
            <a:prstGeom prst="line">
              <a:avLst/>
            </a:prstGeom>
            <a:ln w="936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6327360" y="3689280"/>
              <a:ext cx="2137680" cy="36828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50021"/>
                  </a:solidFill>
                  <a:latin typeface="Tahoma"/>
                </a:rPr>
                <a:t>Square root polic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8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3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Usefulness of Cach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715" name="" descr=""/>
          <p:cNvPicPr/>
          <p:nvPr/>
        </p:nvPicPr>
        <p:blipFill>
          <a:blip r:embed="rId1"/>
          <a:stretch/>
        </p:blipFill>
        <p:spPr>
          <a:xfrm>
            <a:off x="2527200" y="1432080"/>
            <a:ext cx="6235920" cy="4900320"/>
          </a:xfrm>
          <a:prstGeom prst="rect">
            <a:avLst/>
          </a:prstGeom>
          <a:ln w="0">
            <a:noFill/>
          </a:ln>
        </p:spPr>
      </p:pic>
      <p:grpSp>
        <p:nvGrpSpPr>
          <p:cNvPr id="716" name=""/>
          <p:cNvGrpSpPr/>
          <p:nvPr/>
        </p:nvGrpSpPr>
        <p:grpSpPr>
          <a:xfrm>
            <a:off x="3732840" y="1143000"/>
            <a:ext cx="2455920" cy="1523520"/>
            <a:chOff x="3732840" y="1143000"/>
            <a:chExt cx="2455920" cy="1523520"/>
          </a:xfrm>
        </p:grpSpPr>
        <p:sp>
          <p:nvSpPr>
            <p:cNvPr id="717" name=""/>
            <p:cNvSpPr/>
            <p:nvPr/>
          </p:nvSpPr>
          <p:spPr>
            <a:xfrm>
              <a:off x="3749760" y="1599840"/>
              <a:ext cx="304560" cy="1066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 flipH="1">
              <a:off x="4054320" y="1447560"/>
              <a:ext cx="5335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3732840" y="1143000"/>
              <a:ext cx="2455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locking phenome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22860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SSIM-pack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x20 gri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00 nod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5 feet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groups with 20 memb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 – 40 requests per group in 10 min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1" name=""/>
          <p:cNvSpPr/>
          <p:nvPr/>
        </p:nvSpPr>
        <p:spPr>
          <a:xfrm>
            <a:off x="3079800" y="3597120"/>
            <a:ext cx="2514600" cy="29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# of packets per app. cod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6240600" y="3597120"/>
            <a:ext cx="2514600" cy="29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# of packets per app. cod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3048120" y="6102360"/>
            <a:ext cx="2514600" cy="29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# of packets per app. cod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6240600" y="6102360"/>
            <a:ext cx="2514600" cy="29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# of packets per app. cod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 rot="10800000">
            <a:off x="5695560" y="1454760"/>
            <a:ext cx="378360" cy="199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# of forwarded packe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6" name="" descr=""/>
          <p:cNvPicPr/>
          <p:nvPr/>
        </p:nvPicPr>
        <p:blipFill>
          <a:blip r:embed="rId2"/>
          <a:stretch/>
        </p:blipFill>
        <p:spPr>
          <a:xfrm>
            <a:off x="1219320" y="2209680"/>
            <a:ext cx="6629400" cy="2133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0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5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Scalability to Node Density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22860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SSIM-pack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x20 gri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00 nod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5, 10, 15, 2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eet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groups with 20 memb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 – 40 requests per group in 10 min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29" name="" descr=""/>
          <p:cNvPicPr/>
          <p:nvPr/>
        </p:nvPicPr>
        <p:blipFill>
          <a:blip r:embed="rId1"/>
          <a:stretch/>
        </p:blipFill>
        <p:spPr>
          <a:xfrm>
            <a:off x="3049560" y="1146240"/>
            <a:ext cx="5484960" cy="1673280"/>
          </a:xfrm>
          <a:prstGeom prst="rect">
            <a:avLst/>
          </a:prstGeom>
          <a:ln w="0">
            <a:noFill/>
          </a:ln>
        </p:spPr>
      </p:pic>
      <p:pic>
        <p:nvPicPr>
          <p:cNvPr id="730" name="" descr=""/>
          <p:cNvPicPr/>
          <p:nvPr/>
        </p:nvPicPr>
        <p:blipFill>
          <a:blip r:embed="rId2"/>
          <a:stretch/>
        </p:blipFill>
        <p:spPr>
          <a:xfrm>
            <a:off x="3049560" y="2898720"/>
            <a:ext cx="5484960" cy="1673280"/>
          </a:xfrm>
          <a:prstGeom prst="rect">
            <a:avLst/>
          </a:prstGeom>
          <a:ln w="0">
            <a:noFill/>
          </a:ln>
        </p:spPr>
      </p:pic>
      <p:pic>
        <p:nvPicPr>
          <p:cNvPr id="731" name="" descr=""/>
          <p:cNvPicPr/>
          <p:nvPr/>
        </p:nvPicPr>
        <p:blipFill>
          <a:blip r:embed="rId3"/>
          <a:stretch/>
        </p:blipFill>
        <p:spPr>
          <a:xfrm>
            <a:off x="3049560" y="4651200"/>
            <a:ext cx="5484960" cy="1673280"/>
          </a:xfrm>
          <a:prstGeom prst="rect">
            <a:avLst/>
          </a:prstGeom>
          <a:ln w="0">
            <a:noFill/>
          </a:ln>
        </p:spPr>
      </p:pic>
      <p:sp>
        <p:nvSpPr>
          <p:cNvPr id="732" name=""/>
          <p:cNvSpPr/>
          <p:nvPr/>
        </p:nvSpPr>
        <p:spPr>
          <a:xfrm>
            <a:off x="4876920" y="2665440"/>
            <a:ext cx="2514600" cy="29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# of packets per app. cod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4876920" y="4381560"/>
            <a:ext cx="2514600" cy="29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# of packets per app. cod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4876920" y="6114960"/>
            <a:ext cx="2514600" cy="29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# of packets per app. cod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 rot="10800000">
            <a:off x="2884320" y="2895480"/>
            <a:ext cx="576360" cy="150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# of forwarded packe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4745160" y="3565440"/>
            <a:ext cx="1523880" cy="838440"/>
          </a:xfrm>
          <a:prstGeom prst="ellipse">
            <a:avLst/>
          </a:prstGeom>
          <a:noFill/>
          <a:ln w="1908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4724280" y="1720800"/>
            <a:ext cx="1600200" cy="914400"/>
          </a:xfrm>
          <a:prstGeom prst="ellipse">
            <a:avLst/>
          </a:prstGeom>
          <a:noFill/>
          <a:ln w="1908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7772400" y="4419720"/>
            <a:ext cx="762120" cy="1904760"/>
          </a:xfrm>
          <a:prstGeom prst="ellipse">
            <a:avLst/>
          </a:prstGeom>
          <a:noFill/>
          <a:ln w="1908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2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500"/>
                            </p:stCondLst>
                            <p:childTnLst>
                              <p:par>
                                <p:cTn id="604" nodeType="afterEffect" fill="hold" presetClass="emph" presetID="35" repeatCount="3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05" dur="10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0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500"/>
                            </p:stCondLst>
                            <p:childTnLst>
                              <p:par>
                                <p:cTn id="612" nodeType="afterEffect" fill="hold" presetClass="emph" presetID="35" repeatCount="3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13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8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500"/>
                            </p:stCondLst>
                            <p:childTnLst>
                              <p:par>
                                <p:cTn id="620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21" dur="10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Load Balanc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740" name="" descr=""/>
          <p:cNvPicPr/>
          <p:nvPr/>
        </p:nvPicPr>
        <p:blipFill>
          <a:blip r:embed="rId1"/>
          <a:stretch/>
        </p:blipFill>
        <p:spPr>
          <a:xfrm>
            <a:off x="457200" y="1371600"/>
            <a:ext cx="4114800" cy="3259080"/>
          </a:xfrm>
          <a:prstGeom prst="rect">
            <a:avLst/>
          </a:prstGeom>
          <a:ln w="0">
            <a:noFill/>
          </a:ln>
        </p:spPr>
      </p:pic>
      <p:pic>
        <p:nvPicPr>
          <p:cNvPr id="741" name="" descr=""/>
          <p:cNvPicPr/>
          <p:nvPr/>
        </p:nvPicPr>
        <p:blipFill>
          <a:blip r:embed="rId2"/>
          <a:stretch/>
        </p:blipFill>
        <p:spPr>
          <a:xfrm>
            <a:off x="4800600" y="1373040"/>
            <a:ext cx="4114800" cy="3259440"/>
          </a:xfrm>
          <a:prstGeom prst="rect">
            <a:avLst/>
          </a:prstGeom>
          <a:ln w="0">
            <a:noFill/>
          </a:ln>
        </p:spPr>
      </p:pic>
      <p:sp>
        <p:nvSpPr>
          <p:cNvPr id="742" name=""/>
          <p:cNvSpPr/>
          <p:nvPr/>
        </p:nvSpPr>
        <p:spPr>
          <a:xfrm>
            <a:off x="1616040" y="4648320"/>
            <a:ext cx="172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nsmis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6130440" y="4648320"/>
            <a:ext cx="136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ce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905120" y="5257440"/>
            <a:ext cx="228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SSIM-b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00 nod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 groups with 20 membe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5" name=""/>
          <p:cNvSpPr/>
          <p:nvPr/>
        </p:nvSpPr>
        <p:spPr>
          <a:xfrm>
            <a:off x="5029200" y="5257800"/>
            <a:ext cx="2286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x20 g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5 feet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 – 40 requests per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arison to Trick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747" name="" descr=""/>
          <p:cNvPicPr/>
          <p:nvPr/>
        </p:nvPicPr>
        <p:blipFill>
          <a:blip r:embed="rId1"/>
          <a:stretch/>
        </p:blipFill>
        <p:spPr>
          <a:xfrm>
            <a:off x="3200400" y="1219320"/>
            <a:ext cx="5486400" cy="1676160"/>
          </a:xfrm>
          <a:prstGeom prst="rect">
            <a:avLst/>
          </a:prstGeom>
          <a:ln w="0">
            <a:noFill/>
          </a:ln>
        </p:spPr>
      </p:pic>
      <p:pic>
        <p:nvPicPr>
          <p:cNvPr id="748" name="" descr=""/>
          <p:cNvPicPr/>
          <p:nvPr/>
        </p:nvPicPr>
        <p:blipFill>
          <a:blip r:embed="rId2"/>
          <a:stretch/>
        </p:blipFill>
        <p:spPr>
          <a:xfrm>
            <a:off x="3201840" y="2895480"/>
            <a:ext cx="5484960" cy="1673280"/>
          </a:xfrm>
          <a:prstGeom prst="rect">
            <a:avLst/>
          </a:prstGeom>
          <a:ln w="0">
            <a:noFill/>
          </a:ln>
        </p:spPr>
      </p:pic>
      <p:pic>
        <p:nvPicPr>
          <p:cNvPr id="749" name="" descr=""/>
          <p:cNvPicPr/>
          <p:nvPr/>
        </p:nvPicPr>
        <p:blipFill>
          <a:blip r:embed="rId3"/>
          <a:stretch/>
        </p:blipFill>
        <p:spPr>
          <a:xfrm>
            <a:off x="3278160" y="4495680"/>
            <a:ext cx="5408640" cy="1905120"/>
          </a:xfrm>
          <a:prstGeom prst="rect">
            <a:avLst/>
          </a:prstGeom>
          <a:ln w="0">
            <a:noFill/>
          </a:ln>
        </p:spPr>
      </p:pic>
      <p:sp>
        <p:nvSpPr>
          <p:cNvPr id="750" name=""/>
          <p:cNvSpPr/>
          <p:nvPr/>
        </p:nvSpPr>
        <p:spPr>
          <a:xfrm>
            <a:off x="228600" y="1523880"/>
            <a:ext cx="28954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SSIM-pac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x20 gri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00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cenarios: </a:t>
            </a:r>
            <a:r>
              <a:rPr b="0" lang="el-GR" sz="2000" spc="-1" strike="noStrike">
                <a:solidFill>
                  <a:srgbClr val="000000"/>
                </a:solidFill>
                <a:latin typeface="Tahoma"/>
                <a:ea typeface="Tahoma"/>
              </a:rPr>
              <a:t>ρ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 (10, 20, 40)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ndom member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1: all 400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: all 400 nod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1" name=""/>
          <p:cNvGrpSpPr/>
          <p:nvPr/>
        </p:nvGrpSpPr>
        <p:grpSpPr>
          <a:xfrm>
            <a:off x="507240" y="3962520"/>
            <a:ext cx="2083680" cy="1892520"/>
            <a:chOff x="507240" y="3962520"/>
            <a:chExt cx="2083680" cy="1892520"/>
          </a:xfrm>
        </p:grpSpPr>
        <p:sp>
          <p:nvSpPr>
            <p:cNvPr id="752" name=""/>
            <p:cNvSpPr/>
            <p:nvPr/>
          </p:nvSpPr>
          <p:spPr>
            <a:xfrm>
              <a:off x="990720" y="3962520"/>
              <a:ext cx="1600200" cy="15242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990720" y="4724640"/>
              <a:ext cx="762120" cy="7621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1752840" y="3962520"/>
              <a:ext cx="838080" cy="762120"/>
            </a:xfrm>
            <a:prstGeom prst="rect">
              <a:avLst/>
            </a:prstGeom>
            <a:noFill/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1371960" y="4343760"/>
              <a:ext cx="761760" cy="76176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1067040" y="5029560"/>
              <a:ext cx="43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Tahoma"/>
                </a:rPr>
                <a:t>S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1981440" y="4038840"/>
              <a:ext cx="43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8000"/>
                  </a:solidFill>
                  <a:latin typeface="Tahoma"/>
                </a:rPr>
                <a:t>S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1524240" y="4572360"/>
              <a:ext cx="43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914760" y="5410440"/>
              <a:ext cx="152280" cy="15228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07240" y="5486760"/>
              <a:ext cx="1086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atewa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Empirical Study – Code updating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762" name="" descr=""/>
          <p:cNvPicPr/>
          <p:nvPr/>
        </p:nvPicPr>
        <p:blipFill>
          <a:blip r:embed="rId1"/>
          <a:stretch/>
        </p:blipFill>
        <p:spPr>
          <a:xfrm>
            <a:off x="2666880" y="1371600"/>
            <a:ext cx="4724640" cy="2529000"/>
          </a:xfrm>
          <a:prstGeom prst="rect">
            <a:avLst/>
          </a:prstGeom>
          <a:ln w="0">
            <a:noFill/>
          </a:ln>
        </p:spPr>
      </p:pic>
      <p:pic>
        <p:nvPicPr>
          <p:cNvPr id="763" name="" descr=""/>
          <p:cNvPicPr/>
          <p:nvPr/>
        </p:nvPicPr>
        <p:blipFill>
          <a:blip r:embed="rId2"/>
          <a:stretch/>
        </p:blipFill>
        <p:spPr>
          <a:xfrm>
            <a:off x="1143000" y="4114800"/>
            <a:ext cx="6375240" cy="2489040"/>
          </a:xfrm>
          <a:prstGeom prst="rect">
            <a:avLst/>
          </a:prstGeom>
          <a:ln w="0">
            <a:noFill/>
          </a:ln>
        </p:spPr>
      </p:pic>
      <p:sp>
        <p:nvSpPr>
          <p:cNvPr id="764" name=""/>
          <p:cNvSpPr/>
          <p:nvPr/>
        </p:nvSpPr>
        <p:spPr>
          <a:xfrm>
            <a:off x="2590920" y="1600200"/>
            <a:ext cx="380880" cy="304920"/>
          </a:xfrm>
          <a:prstGeom prst="ellipse">
            <a:avLst/>
          </a:prstGeom>
          <a:noFill/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6248520" y="1981080"/>
            <a:ext cx="380880" cy="304920"/>
          </a:xfrm>
          <a:prstGeom prst="ellipse">
            <a:avLst/>
          </a:prstGeom>
          <a:noFill/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3886200" y="3124080"/>
            <a:ext cx="380880" cy="304920"/>
          </a:xfrm>
          <a:prstGeom prst="ellipse">
            <a:avLst/>
          </a:prstGeom>
          <a:noFill/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4495680" y="1981080"/>
            <a:ext cx="381240" cy="304920"/>
          </a:xfrm>
          <a:prstGeom prst="ellipse">
            <a:avLst/>
          </a:prstGeom>
          <a:noFill/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2438280" y="144792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1830960" y="1143000"/>
            <a:ext cx="10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te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 flipH="1" flipV="1">
            <a:off x="6629040" y="205740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 flipH="1" flipV="1">
            <a:off x="4876560" y="2209320"/>
            <a:ext cx="28191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 flipH="1">
            <a:off x="4266720" y="3048120"/>
            <a:ext cx="34290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7638120" y="281952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220968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6 nod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 memb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-4 ho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ckets per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mpirical Study – Shadow Track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6" name=""/>
          <p:cNvSpPr/>
          <p:nvPr/>
        </p:nvSpPr>
        <p:spPr>
          <a:xfrm>
            <a:off x="2209680" y="2941560"/>
            <a:ext cx="152640" cy="1526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2735280" y="2941560"/>
            <a:ext cx="152280" cy="1526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3260880" y="2941560"/>
            <a:ext cx="152280" cy="1526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3786120" y="2941560"/>
            <a:ext cx="152640" cy="1526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4311720" y="2941560"/>
            <a:ext cx="152280" cy="1526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4838760" y="2941560"/>
            <a:ext cx="152280" cy="1526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5364000" y="2941560"/>
            <a:ext cx="152640" cy="1526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5889600" y="2941560"/>
            <a:ext cx="152280" cy="1526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6940440" y="2941560"/>
            <a:ext cx="152640" cy="1526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6415200" y="2941560"/>
            <a:ext cx="152280" cy="1526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 flipV="1">
            <a:off x="1905120" y="3025800"/>
            <a:ext cx="30456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068840" y="3048120"/>
            <a:ext cx="10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te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Litebulb"/>
          <p:cNvSpPr/>
          <p:nvPr/>
        </p:nvSpPr>
        <p:spPr>
          <a:xfrm rot="10800000">
            <a:off x="4266720" y="1255680"/>
            <a:ext cx="381240" cy="533520"/>
          </a:xfrm>
          <a:prstGeom prst="pie">
            <a:avLst/>
          </a:prstGeom>
          <a:solidFill>
            <a:srgbClr val="ffff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3276720" y="2668680"/>
            <a:ext cx="990360" cy="745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2971800" y="2895480"/>
            <a:ext cx="1219320" cy="304920"/>
          </a:xfrm>
          <a:prstGeom prst="ellipse">
            <a:avLst/>
          </a:prstGeom>
          <a:solidFill>
            <a:srgbClr val="00e4a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2819520" y="2362320"/>
            <a:ext cx="53316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269800" y="201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3657600" y="25909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4" name="" descr=""/>
          <p:cNvPicPr/>
          <p:nvPr/>
        </p:nvPicPr>
        <p:blipFill>
          <a:blip r:embed="rId1"/>
          <a:stretch/>
        </p:blipFill>
        <p:spPr>
          <a:xfrm>
            <a:off x="1523880" y="3429000"/>
            <a:ext cx="6363000" cy="2882880"/>
          </a:xfrm>
          <a:prstGeom prst="rect">
            <a:avLst/>
          </a:prstGeom>
          <a:ln w="0">
            <a:noFill/>
          </a:ln>
        </p:spPr>
      </p:pic>
      <p:sp>
        <p:nvSpPr>
          <p:cNvPr id="795" name=""/>
          <p:cNvSpPr/>
          <p:nvPr/>
        </p:nvSpPr>
        <p:spPr>
          <a:xfrm flipH="1">
            <a:off x="2971800" y="1560600"/>
            <a:ext cx="1295280" cy="1447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H="1">
            <a:off x="4191120" y="1712880"/>
            <a:ext cx="457200" cy="1371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7467480" y="2940120"/>
            <a:ext cx="152640" cy="15228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1600200" y="1219320"/>
            <a:ext cx="5638320" cy="3047400"/>
            <a:chOff x="1600200" y="1219320"/>
            <a:chExt cx="5638320" cy="3047400"/>
          </a:xfrm>
        </p:grpSpPr>
        <p:pic>
          <p:nvPicPr>
            <p:cNvPr id="99" name="" descr=""/>
            <p:cNvPicPr/>
            <p:nvPr/>
          </p:nvPicPr>
          <p:blipFill>
            <a:blip r:embed="rId1"/>
            <a:stretch/>
          </p:blipFill>
          <p:spPr>
            <a:xfrm>
              <a:off x="2022840" y="2403720"/>
              <a:ext cx="281880" cy="19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3573720" y="1608120"/>
              <a:ext cx="281520" cy="19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" descr=""/>
            <p:cNvPicPr/>
            <p:nvPr/>
          </p:nvPicPr>
          <p:blipFill>
            <a:blip r:embed="rId3"/>
            <a:stretch/>
          </p:blipFill>
          <p:spPr>
            <a:xfrm>
              <a:off x="3926160" y="2837880"/>
              <a:ext cx="281880" cy="19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" descr=""/>
            <p:cNvPicPr/>
            <p:nvPr/>
          </p:nvPicPr>
          <p:blipFill>
            <a:blip r:embed="rId4"/>
            <a:stretch/>
          </p:blipFill>
          <p:spPr>
            <a:xfrm>
              <a:off x="5335560" y="2186640"/>
              <a:ext cx="281880" cy="19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5"/>
            <a:stretch/>
          </p:blipFill>
          <p:spPr>
            <a:xfrm>
              <a:off x="2586600" y="2982960"/>
              <a:ext cx="281880" cy="19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6"/>
            <a:stretch/>
          </p:blipFill>
          <p:spPr>
            <a:xfrm>
              <a:off x="3220920" y="2331720"/>
              <a:ext cx="281880" cy="19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" descr=""/>
            <p:cNvPicPr/>
            <p:nvPr/>
          </p:nvPicPr>
          <p:blipFill>
            <a:blip r:embed="rId7"/>
            <a:stretch/>
          </p:blipFill>
          <p:spPr>
            <a:xfrm>
              <a:off x="4278240" y="3489120"/>
              <a:ext cx="281880" cy="19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" descr=""/>
            <p:cNvPicPr/>
            <p:nvPr/>
          </p:nvPicPr>
          <p:blipFill>
            <a:blip r:embed="rId8"/>
            <a:stretch/>
          </p:blipFill>
          <p:spPr>
            <a:xfrm>
              <a:off x="1952280" y="3561480"/>
              <a:ext cx="281880" cy="19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" descr=""/>
            <p:cNvPicPr/>
            <p:nvPr/>
          </p:nvPicPr>
          <p:blipFill>
            <a:blip r:embed="rId9"/>
            <a:stretch/>
          </p:blipFill>
          <p:spPr>
            <a:xfrm>
              <a:off x="3009600" y="3778560"/>
              <a:ext cx="281880" cy="19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" descr=""/>
            <p:cNvPicPr/>
            <p:nvPr/>
          </p:nvPicPr>
          <p:blipFill>
            <a:blip r:embed="rId10"/>
            <a:stretch/>
          </p:blipFill>
          <p:spPr>
            <a:xfrm>
              <a:off x="5265360" y="2693160"/>
              <a:ext cx="281520" cy="19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" descr=""/>
            <p:cNvPicPr/>
            <p:nvPr/>
          </p:nvPicPr>
          <p:blipFill>
            <a:blip r:embed="rId11"/>
            <a:stretch/>
          </p:blipFill>
          <p:spPr>
            <a:xfrm>
              <a:off x="5758560" y="1535760"/>
              <a:ext cx="281880" cy="19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" descr=""/>
            <p:cNvPicPr/>
            <p:nvPr/>
          </p:nvPicPr>
          <p:blipFill>
            <a:blip r:embed="rId12"/>
            <a:stretch/>
          </p:blipFill>
          <p:spPr>
            <a:xfrm>
              <a:off x="5899680" y="3561480"/>
              <a:ext cx="281520" cy="19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" descr=""/>
            <p:cNvPicPr/>
            <p:nvPr/>
          </p:nvPicPr>
          <p:blipFill>
            <a:blip r:embed="rId13"/>
            <a:stretch/>
          </p:blipFill>
          <p:spPr>
            <a:xfrm>
              <a:off x="5476680" y="4068000"/>
              <a:ext cx="281520" cy="19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" descr=""/>
            <p:cNvPicPr/>
            <p:nvPr/>
          </p:nvPicPr>
          <p:blipFill>
            <a:blip r:embed="rId14"/>
            <a:stretch/>
          </p:blipFill>
          <p:spPr>
            <a:xfrm>
              <a:off x="6957000" y="3054960"/>
              <a:ext cx="281520" cy="19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" descr=""/>
            <p:cNvPicPr/>
            <p:nvPr/>
          </p:nvPicPr>
          <p:blipFill>
            <a:blip r:embed="rId15"/>
            <a:stretch/>
          </p:blipFill>
          <p:spPr>
            <a:xfrm>
              <a:off x="6604200" y="2114640"/>
              <a:ext cx="281880" cy="19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2093400" y="2593800"/>
              <a:ext cx="0" cy="94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305080" y="2593800"/>
              <a:ext cx="352080" cy="36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868840" y="3172320"/>
              <a:ext cx="211320" cy="65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2163960" y="3171960"/>
              <a:ext cx="493200" cy="36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798280" y="2521080"/>
              <a:ext cx="493200" cy="43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3432600" y="1798200"/>
              <a:ext cx="211320" cy="50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503160" y="2521440"/>
              <a:ext cx="493200" cy="28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208040" y="3027960"/>
              <a:ext cx="140760" cy="43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>
              <a:off x="5406120" y="2376720"/>
              <a:ext cx="70560" cy="28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5476680" y="1725480"/>
              <a:ext cx="352080" cy="50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40440" y="1725840"/>
              <a:ext cx="634320" cy="36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745680" y="2304360"/>
              <a:ext cx="281520" cy="72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flipV="1">
              <a:off x="6111360" y="3245040"/>
              <a:ext cx="915840" cy="36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>
              <a:off x="5688360" y="3751560"/>
              <a:ext cx="281520" cy="36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flipV="1">
              <a:off x="4278240" y="2883240"/>
              <a:ext cx="986760" cy="7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4419720" y="2882880"/>
              <a:ext cx="915840" cy="578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560480" y="3606480"/>
              <a:ext cx="916200" cy="43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1" name="" descr=""/>
            <p:cNvPicPr/>
            <p:nvPr/>
          </p:nvPicPr>
          <p:blipFill>
            <a:blip r:embed="rId16"/>
            <a:stretch/>
          </p:blipFill>
          <p:spPr>
            <a:xfrm>
              <a:off x="1600200" y="1219320"/>
              <a:ext cx="842760" cy="84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2516400" y="1653120"/>
              <a:ext cx="1056960" cy="7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163960" y="2087280"/>
              <a:ext cx="70560" cy="36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600200" y="1447920"/>
            <a:ext cx="5714640" cy="2971440"/>
            <a:chOff x="1600200" y="1447920"/>
            <a:chExt cx="5714640" cy="2971440"/>
          </a:xfrm>
        </p:grpSpPr>
        <p:sp>
          <p:nvSpPr>
            <p:cNvPr id="136" name=""/>
            <p:cNvSpPr/>
            <p:nvPr/>
          </p:nvSpPr>
          <p:spPr>
            <a:xfrm>
              <a:off x="1600200" y="2933640"/>
              <a:ext cx="1905120" cy="148572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505320" y="2933640"/>
              <a:ext cx="1905120" cy="148572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410440" y="2933640"/>
              <a:ext cx="1904400" cy="148572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410440" y="1447920"/>
              <a:ext cx="1904400" cy="148572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505320" y="1447920"/>
              <a:ext cx="1905120" cy="148572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600200" y="1447920"/>
              <a:ext cx="1905120" cy="148572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1828800" y="1447920"/>
            <a:ext cx="5105520" cy="2946240"/>
            <a:chOff x="1828800" y="1447920"/>
            <a:chExt cx="5105520" cy="2946240"/>
          </a:xfrm>
        </p:grpSpPr>
        <p:pic>
          <p:nvPicPr>
            <p:cNvPr id="143" name="" descr=""/>
            <p:cNvPicPr/>
            <p:nvPr/>
          </p:nvPicPr>
          <p:blipFill>
            <a:blip r:embed="rId17"/>
            <a:stretch/>
          </p:blipFill>
          <p:spPr>
            <a:xfrm>
              <a:off x="2286000" y="2133720"/>
              <a:ext cx="387360" cy="58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" descr=""/>
            <p:cNvPicPr/>
            <p:nvPr/>
          </p:nvPicPr>
          <p:blipFill>
            <a:blip r:embed="rId18"/>
            <a:stretch/>
          </p:blipFill>
          <p:spPr>
            <a:xfrm>
              <a:off x="4038480" y="1523880"/>
              <a:ext cx="387360" cy="58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" descr=""/>
            <p:cNvPicPr/>
            <p:nvPr/>
          </p:nvPicPr>
          <p:blipFill>
            <a:blip r:embed="rId19"/>
            <a:stretch/>
          </p:blipFill>
          <p:spPr>
            <a:xfrm>
              <a:off x="6172200" y="1828800"/>
              <a:ext cx="387360" cy="58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" descr=""/>
            <p:cNvPicPr/>
            <p:nvPr/>
          </p:nvPicPr>
          <p:blipFill>
            <a:blip r:embed="rId20"/>
            <a:stretch/>
          </p:blipFill>
          <p:spPr>
            <a:xfrm>
              <a:off x="6172200" y="3733920"/>
              <a:ext cx="387360" cy="58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" descr=""/>
            <p:cNvPicPr/>
            <p:nvPr/>
          </p:nvPicPr>
          <p:blipFill>
            <a:blip r:embed="rId21"/>
            <a:stretch/>
          </p:blipFill>
          <p:spPr>
            <a:xfrm>
              <a:off x="1981080" y="3809880"/>
              <a:ext cx="387360" cy="58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" descr=""/>
            <p:cNvPicPr/>
            <p:nvPr/>
          </p:nvPicPr>
          <p:blipFill>
            <a:blip r:embed="rId22"/>
            <a:stretch/>
          </p:blipFill>
          <p:spPr>
            <a:xfrm>
              <a:off x="4038480" y="3657600"/>
              <a:ext cx="387360" cy="58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1828800" y="3429000"/>
              <a:ext cx="457200" cy="45720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191120" y="3352680"/>
              <a:ext cx="457200" cy="45720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791320" y="3505320"/>
              <a:ext cx="457200" cy="45720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905120" y="2209680"/>
              <a:ext cx="457200" cy="45720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505320" y="1447920"/>
              <a:ext cx="457200" cy="45720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477120" y="1981080"/>
              <a:ext cx="457200" cy="45720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1905120" y="4572000"/>
            <a:ext cx="4656240" cy="457200"/>
            <a:chOff x="1905120" y="4572000"/>
            <a:chExt cx="4656240" cy="457200"/>
          </a:xfrm>
        </p:grpSpPr>
        <p:sp>
          <p:nvSpPr>
            <p:cNvPr id="156" name=""/>
            <p:cNvSpPr/>
            <p:nvPr/>
          </p:nvSpPr>
          <p:spPr>
            <a:xfrm>
              <a:off x="1905120" y="4572000"/>
              <a:ext cx="456840" cy="45720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404440" y="4603680"/>
              <a:ext cx="415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Temperature monitoring app. (static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3124080" y="1295280"/>
            <a:ext cx="2627280" cy="1981440"/>
            <a:chOff x="3124080" y="1295280"/>
            <a:chExt cx="2627280" cy="1981440"/>
          </a:xfrm>
        </p:grpSpPr>
        <p:sp>
          <p:nvSpPr>
            <p:cNvPr id="159" name=""/>
            <p:cNvSpPr/>
            <p:nvPr/>
          </p:nvSpPr>
          <p:spPr>
            <a:xfrm>
              <a:off x="5141880" y="1828800"/>
              <a:ext cx="609480" cy="1447920"/>
            </a:xfrm>
            <a:prstGeom prst="ellipse">
              <a:avLst/>
            </a:prstGeom>
            <a:noFill/>
            <a:ln w="1908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124080" y="1295280"/>
              <a:ext cx="838440" cy="1447920"/>
            </a:xfrm>
            <a:prstGeom prst="ellipse">
              <a:avLst/>
            </a:prstGeom>
            <a:noFill/>
            <a:ln w="1908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1916280" y="5105520"/>
            <a:ext cx="5837040" cy="457200"/>
            <a:chOff x="1916280" y="5105520"/>
            <a:chExt cx="5837040" cy="457200"/>
          </a:xfrm>
        </p:grpSpPr>
        <p:sp>
          <p:nvSpPr>
            <p:cNvPr id="162" name=""/>
            <p:cNvSpPr/>
            <p:nvPr/>
          </p:nvSpPr>
          <p:spPr>
            <a:xfrm>
              <a:off x="1916280" y="5105520"/>
              <a:ext cx="457200" cy="457200"/>
            </a:xfrm>
            <a:prstGeom prst="ellipse">
              <a:avLst/>
            </a:prstGeom>
            <a:noFill/>
            <a:ln w="1908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377440" y="5137200"/>
              <a:ext cx="537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tructure health monitoring app. (slow dynamic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6781680" y="2819520"/>
            <a:ext cx="1123920" cy="790560"/>
            <a:chOff x="6781680" y="2819520"/>
            <a:chExt cx="1123920" cy="790560"/>
          </a:xfrm>
        </p:grpSpPr>
        <p:pic>
          <p:nvPicPr>
            <p:cNvPr id="165" name="" descr=""/>
            <p:cNvPicPr/>
            <p:nvPr/>
          </p:nvPicPr>
          <p:blipFill>
            <a:blip r:embed="rId23"/>
            <a:stretch/>
          </p:blipFill>
          <p:spPr>
            <a:xfrm>
              <a:off x="7315200" y="2895480"/>
              <a:ext cx="590400" cy="71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6781680" y="2819520"/>
              <a:ext cx="685800" cy="685800"/>
            </a:xfrm>
            <a:prstGeom prst="ellipse">
              <a:avLst/>
            </a:pr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1905120" y="5638680"/>
            <a:ext cx="5425920" cy="457200"/>
            <a:chOff x="1905120" y="5638680"/>
            <a:chExt cx="5425920" cy="457200"/>
          </a:xfrm>
        </p:grpSpPr>
        <p:sp>
          <p:nvSpPr>
            <p:cNvPr id="168" name=""/>
            <p:cNvSpPr/>
            <p:nvPr/>
          </p:nvSpPr>
          <p:spPr>
            <a:xfrm>
              <a:off x="1905120" y="5638680"/>
              <a:ext cx="456840" cy="457200"/>
            </a:xfrm>
            <a:prstGeom prst="ellipse">
              <a:avLst/>
            </a:pr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390760" y="5670360"/>
              <a:ext cx="494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Personnel/asset tracking app. (fast dynamic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1143000" y="25909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143000" y="2666880"/>
            <a:ext cx="7621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03720" y="2446200"/>
            <a:ext cx="60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5E-006 0.0465 C -0.04843 0.08721 -0.09635 0.12793 -0.13994 0.13047 C -0.18316 0.13301 -0.22726 0.08906 -0.26146 0.06107 C -0.29549 0.03285 -0.31997 -0.01133 -0.3448 -0.03839 C -0.3698 -0.06546 -0.3908 -0.08396 -0.41146 -0.10201 E">
                                      <p:cBhvr>
                                        <p:cTn id="29" dur="5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urrent Status &amp; Future Direct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stat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memory manage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ggressive caching polic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efficient code forwar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rwarder suppress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world impa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ing adopted by ETRI, South Kore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ture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hanced group oper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rtual memo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lidation through real-world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3657600" y="2743200"/>
            <a:ext cx="3008160" cy="9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Thanks!!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gramming mod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bile agents (push-based): Agilla, Sensor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nyCu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od, Abstract Reg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. dissemination and sear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ckle, PSFQ, Deluge, Impal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-ring model, Acquire, rumor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halle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1600200" y="1219320"/>
            <a:ext cx="6400080" cy="1904040"/>
            <a:chOff x="1600200" y="1219320"/>
            <a:chExt cx="6400080" cy="1904040"/>
          </a:xfrm>
        </p:grpSpPr>
        <p:grpSp>
          <p:nvGrpSpPr>
            <p:cNvPr id="175" name=""/>
            <p:cNvGrpSpPr/>
            <p:nvPr/>
          </p:nvGrpSpPr>
          <p:grpSpPr>
            <a:xfrm>
              <a:off x="1600200" y="1219320"/>
              <a:ext cx="5723280" cy="1813680"/>
              <a:chOff x="1600200" y="1219320"/>
              <a:chExt cx="5723280" cy="1813680"/>
            </a:xfrm>
          </p:grpSpPr>
          <p:pic>
            <p:nvPicPr>
              <p:cNvPr id="17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029320" y="1924200"/>
                <a:ext cx="286200" cy="118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603600" y="1450800"/>
                <a:ext cx="285840" cy="118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1080" y="2182680"/>
                <a:ext cx="286200" cy="118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392080" y="1794960"/>
                <a:ext cx="286200" cy="118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2601720" y="2269080"/>
                <a:ext cx="286200" cy="118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3245400" y="1881360"/>
                <a:ext cx="286200" cy="118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318560" y="2570400"/>
                <a:ext cx="286200" cy="118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957680" y="2613240"/>
                <a:ext cx="286200" cy="118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3030840" y="2742480"/>
                <a:ext cx="286200" cy="118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5320440" y="2096640"/>
                <a:ext cx="285840" cy="118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5821200" y="1407600"/>
                <a:ext cx="286200" cy="118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5964480" y="2613240"/>
                <a:ext cx="285840" cy="118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8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5535360" y="2914920"/>
                <a:ext cx="285840" cy="118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9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7037640" y="2311920"/>
                <a:ext cx="285840" cy="118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0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6679800" y="1752120"/>
                <a:ext cx="286200" cy="11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1" name=""/>
              <p:cNvSpPr/>
              <p:nvPr/>
            </p:nvSpPr>
            <p:spPr>
              <a:xfrm>
                <a:off x="2100960" y="2037600"/>
                <a:ext cx="0" cy="559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2315520" y="2037600"/>
                <a:ext cx="357480" cy="21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2887920" y="2381760"/>
                <a:ext cx="214560" cy="387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flipV="1">
                <a:off x="2172240" y="2381760"/>
                <a:ext cx="500760" cy="215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V="1">
                <a:off x="2816280" y="1994040"/>
                <a:ext cx="500760" cy="258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flipV="1">
                <a:off x="3459960" y="1563840"/>
                <a:ext cx="214560" cy="300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531960" y="1994400"/>
                <a:ext cx="500760" cy="172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4247280" y="2295720"/>
                <a:ext cx="142920" cy="258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flipH="1">
                <a:off x="5463360" y="1908360"/>
                <a:ext cx="71640" cy="172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flipV="1">
                <a:off x="5535360" y="1520280"/>
                <a:ext cx="357480" cy="30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6107400" y="1520640"/>
                <a:ext cx="643680" cy="21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823080" y="1865160"/>
                <a:ext cx="285840" cy="430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flipV="1">
                <a:off x="6179040" y="2424600"/>
                <a:ext cx="929880" cy="21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flipH="1">
                <a:off x="5749920" y="2726640"/>
                <a:ext cx="285840" cy="21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flipV="1">
                <a:off x="4318560" y="2209320"/>
                <a:ext cx="1001880" cy="42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V="1">
                <a:off x="4462200" y="2209680"/>
                <a:ext cx="929880" cy="344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4605120" y="2640240"/>
                <a:ext cx="929880" cy="258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08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1600200" y="1219320"/>
                <a:ext cx="855360" cy="505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9" name=""/>
              <p:cNvSpPr/>
              <p:nvPr/>
            </p:nvSpPr>
            <p:spPr>
              <a:xfrm>
                <a:off x="2530080" y="1477440"/>
                <a:ext cx="1073160" cy="42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2172240" y="1735920"/>
                <a:ext cx="71640" cy="215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1" name=""/>
            <p:cNvGrpSpPr/>
            <p:nvPr/>
          </p:nvGrpSpPr>
          <p:grpSpPr>
            <a:xfrm>
              <a:off x="1600200" y="1355040"/>
              <a:ext cx="5801040" cy="1768320"/>
              <a:chOff x="1600200" y="1355040"/>
              <a:chExt cx="5801040" cy="1768320"/>
            </a:xfrm>
          </p:grpSpPr>
          <p:sp>
            <p:nvSpPr>
              <p:cNvPr id="212" name=""/>
              <p:cNvSpPr/>
              <p:nvPr/>
            </p:nvSpPr>
            <p:spPr>
              <a:xfrm>
                <a:off x="1600200" y="2239200"/>
                <a:ext cx="1933920" cy="884160"/>
              </a:xfrm>
              <a:prstGeom prst="rect">
                <a:avLst/>
              </a:prstGeom>
              <a:noFill/>
              <a:ln w="9360">
                <a:solidFill>
                  <a:srgbClr val="a50021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3534120" y="2239200"/>
                <a:ext cx="1933920" cy="884160"/>
              </a:xfrm>
              <a:prstGeom prst="rect">
                <a:avLst/>
              </a:prstGeom>
              <a:noFill/>
              <a:ln w="9360">
                <a:solidFill>
                  <a:srgbClr val="a50021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5468040" y="2239200"/>
                <a:ext cx="1933200" cy="884160"/>
              </a:xfrm>
              <a:prstGeom prst="rect">
                <a:avLst/>
              </a:prstGeom>
              <a:noFill/>
              <a:ln w="9360">
                <a:solidFill>
                  <a:srgbClr val="a50021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468040" y="1355040"/>
                <a:ext cx="1933200" cy="884160"/>
              </a:xfrm>
              <a:prstGeom prst="rect">
                <a:avLst/>
              </a:prstGeom>
              <a:noFill/>
              <a:ln w="9360">
                <a:solidFill>
                  <a:srgbClr val="a50021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3534120" y="1355040"/>
                <a:ext cx="1933920" cy="884160"/>
              </a:xfrm>
              <a:prstGeom prst="rect">
                <a:avLst/>
              </a:prstGeom>
              <a:noFill/>
              <a:ln w="9360">
                <a:solidFill>
                  <a:srgbClr val="a50021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600200" y="1355040"/>
                <a:ext cx="1933920" cy="884160"/>
              </a:xfrm>
              <a:prstGeom prst="rect">
                <a:avLst/>
              </a:prstGeom>
              <a:noFill/>
              <a:ln w="9360">
                <a:solidFill>
                  <a:srgbClr val="a50021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8" name=""/>
            <p:cNvGrpSpPr/>
            <p:nvPr/>
          </p:nvGrpSpPr>
          <p:grpSpPr>
            <a:xfrm>
              <a:off x="1832040" y="1355040"/>
              <a:ext cx="5182200" cy="1753560"/>
              <a:chOff x="1832040" y="1355040"/>
              <a:chExt cx="5182200" cy="1753560"/>
            </a:xfrm>
          </p:grpSpPr>
          <p:pic>
            <p:nvPicPr>
              <p:cNvPr id="219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2296080" y="1762920"/>
                <a:ext cx="393120" cy="347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0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4074840" y="1400040"/>
                <a:ext cx="393120" cy="347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1" name="" descr=""/>
              <p:cNvPicPr/>
              <p:nvPr/>
            </p:nvPicPr>
            <p:blipFill>
              <a:blip r:embed="rId19"/>
              <a:stretch/>
            </p:blipFill>
            <p:spPr>
              <a:xfrm>
                <a:off x="6240960" y="1581480"/>
                <a:ext cx="393120" cy="347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2" name="" descr=""/>
              <p:cNvPicPr/>
              <p:nvPr/>
            </p:nvPicPr>
            <p:blipFill>
              <a:blip r:embed="rId20"/>
              <a:stretch/>
            </p:blipFill>
            <p:spPr>
              <a:xfrm>
                <a:off x="6240960" y="2715480"/>
                <a:ext cx="393120" cy="347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3" name="" descr=""/>
              <p:cNvPicPr/>
              <p:nvPr/>
            </p:nvPicPr>
            <p:blipFill>
              <a:blip r:embed="rId21"/>
              <a:stretch/>
            </p:blipFill>
            <p:spPr>
              <a:xfrm>
                <a:off x="1986480" y="2760840"/>
                <a:ext cx="393120" cy="347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4" name="" descr=""/>
              <p:cNvPicPr/>
              <p:nvPr/>
            </p:nvPicPr>
            <p:blipFill>
              <a:blip r:embed="rId22"/>
              <a:stretch/>
            </p:blipFill>
            <p:spPr>
              <a:xfrm>
                <a:off x="4074840" y="2670120"/>
                <a:ext cx="393120" cy="347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5" name=""/>
              <p:cNvSpPr/>
              <p:nvPr/>
            </p:nvSpPr>
            <p:spPr>
              <a:xfrm>
                <a:off x="1832040" y="2534040"/>
                <a:ext cx="464040" cy="271800"/>
              </a:xfrm>
              <a:prstGeom prst="ellipse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4230000" y="2488680"/>
                <a:ext cx="464040" cy="271800"/>
              </a:xfrm>
              <a:prstGeom prst="ellipse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5854320" y="2579400"/>
                <a:ext cx="464040" cy="271800"/>
              </a:xfrm>
              <a:prstGeom prst="ellipse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1909440" y="1808280"/>
                <a:ext cx="464040" cy="271800"/>
              </a:xfrm>
              <a:prstGeom prst="ellipse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3533760" y="1355040"/>
                <a:ext cx="464040" cy="271800"/>
              </a:xfrm>
              <a:prstGeom prst="ellipse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6550200" y="1672200"/>
                <a:ext cx="464040" cy="271800"/>
              </a:xfrm>
              <a:prstGeom prst="ellipse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1" name=""/>
            <p:cNvGrpSpPr/>
            <p:nvPr/>
          </p:nvGrpSpPr>
          <p:grpSpPr>
            <a:xfrm>
              <a:off x="3147120" y="1264320"/>
              <a:ext cx="2666520" cy="1179360"/>
              <a:chOff x="3147120" y="1264320"/>
              <a:chExt cx="2666520" cy="1179360"/>
            </a:xfrm>
          </p:grpSpPr>
          <p:sp>
            <p:nvSpPr>
              <p:cNvPr id="232" name=""/>
              <p:cNvSpPr/>
              <p:nvPr/>
            </p:nvSpPr>
            <p:spPr>
              <a:xfrm>
                <a:off x="5195160" y="1581840"/>
                <a:ext cx="618480" cy="861840"/>
              </a:xfrm>
              <a:prstGeom prst="ellipse">
                <a:avLst/>
              </a:prstGeom>
              <a:noFill/>
              <a:ln w="1908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3147120" y="1264320"/>
                <a:ext cx="851040" cy="861840"/>
              </a:xfrm>
              <a:prstGeom prst="ellipse">
                <a:avLst/>
              </a:prstGeom>
              <a:noFill/>
              <a:ln w="1908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6859800" y="2171520"/>
              <a:ext cx="1140480" cy="470160"/>
              <a:chOff x="6859800" y="2171520"/>
              <a:chExt cx="1140480" cy="470160"/>
            </a:xfrm>
          </p:grpSpPr>
          <p:pic>
            <p:nvPicPr>
              <p:cNvPr id="235" name="" descr=""/>
              <p:cNvPicPr/>
              <p:nvPr/>
            </p:nvPicPr>
            <p:blipFill>
              <a:blip r:embed="rId23"/>
              <a:stretch/>
            </p:blipFill>
            <p:spPr>
              <a:xfrm>
                <a:off x="7401240" y="2216520"/>
                <a:ext cx="599040" cy="42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6" name=""/>
              <p:cNvSpPr/>
              <p:nvPr/>
            </p:nvSpPr>
            <p:spPr>
              <a:xfrm>
                <a:off x="6859800" y="2171520"/>
                <a:ext cx="695880" cy="408240"/>
              </a:xfrm>
              <a:prstGeom prst="ellipse">
                <a:avLst/>
              </a:prstGeom>
              <a:noFill/>
              <a:ln w="1908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43000" y="327636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e of programming for app. domain expe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ttle knowledge of NesC and Tiny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of concurrent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liable code storage and execu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lexible and dynamic application deploym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e of software maintenance and upgrade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sistent and reliable code distribu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te of the Ar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457200" y="1447920"/>
          <a:ext cx="8305920" cy="3244680"/>
        </p:xfrm>
        <a:graphic>
          <a:graphicData uri="http://schemas.openxmlformats.org/drawingml/2006/table">
            <a:tbl>
              <a:tblPr/>
              <a:tblGrid>
                <a:gridCol w="1397160"/>
                <a:gridCol w="1574640"/>
                <a:gridCol w="1905120"/>
                <a:gridCol w="1447560"/>
                <a:gridCol w="19814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ase-of-programm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current app. deploy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xpressive-n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oftware upgrade per app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sol. code im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o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igh co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atab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efficient for track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ometimes high co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bile ag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ometimes limi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nreliable over multi-h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inyCub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oor node-level concurren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efficient with app. dynamic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0" name=""/>
          <p:cNvGraphicFramePr/>
          <p:nvPr/>
        </p:nvGraphicFramePr>
        <p:xfrm>
          <a:off x="457200" y="4800600"/>
          <a:ext cx="8305920" cy="685440"/>
        </p:xfrm>
        <a:graphic>
          <a:graphicData uri="http://schemas.openxmlformats.org/drawingml/2006/table">
            <a:tbl>
              <a:tblPr/>
              <a:tblGrid>
                <a:gridCol w="1371600"/>
                <a:gridCol w="1600200"/>
                <a:gridCol w="1905120"/>
                <a:gridCol w="1447560"/>
                <a:gridCol w="1981440"/>
              </a:tblGrid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te + Trick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inyScrip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/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o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/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1" name=""/>
          <p:cNvSpPr/>
          <p:nvPr/>
        </p:nvSpPr>
        <p:spPr>
          <a:xfrm>
            <a:off x="3399480" y="4816440"/>
            <a:ext cx="15829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Tahoma"/>
              </a:rPr>
              <a:t>Group-ba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813720" y="4821120"/>
            <a:ext cx="17524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Tahoma"/>
              </a:rPr>
              <a:t>Group-differentiated</a:t>
            </a:r>
            <a:r>
              <a:rPr b="0" lang="en-US" sz="1700" spc="-1" strike="noStrike">
                <a:solidFill>
                  <a:srgbClr val="a50021"/>
                </a:solidFill>
                <a:latin typeface="Tahom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Group-Based Application Deploy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4" name=""/>
          <p:cNvSpPr/>
          <p:nvPr/>
        </p:nvSpPr>
        <p:spPr>
          <a:xfrm>
            <a:off x="372600" y="1447920"/>
            <a:ext cx="8389080" cy="39888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Group: a subset of sensor nodes to host an application, a logical conce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1295280" y="2057400"/>
            <a:ext cx="4224240" cy="2104560"/>
            <a:chOff x="1295280" y="2057400"/>
            <a:chExt cx="4224240" cy="2104560"/>
          </a:xfrm>
        </p:grpSpPr>
        <p:pic>
          <p:nvPicPr>
            <p:cNvPr id="246" name="" descr=""/>
            <p:cNvPicPr/>
            <p:nvPr/>
          </p:nvPicPr>
          <p:blipFill>
            <a:blip r:embed="rId1"/>
            <a:stretch/>
          </p:blipFill>
          <p:spPr>
            <a:xfrm>
              <a:off x="1612080" y="2875320"/>
              <a:ext cx="211320" cy="1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7" name="" descr=""/>
            <p:cNvPicPr/>
            <p:nvPr/>
          </p:nvPicPr>
          <p:blipFill>
            <a:blip r:embed="rId2"/>
            <a:stretch/>
          </p:blipFill>
          <p:spPr>
            <a:xfrm>
              <a:off x="2773800" y="2325960"/>
              <a:ext cx="210960" cy="1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" descr=""/>
            <p:cNvPicPr/>
            <p:nvPr/>
          </p:nvPicPr>
          <p:blipFill>
            <a:blip r:embed="rId3"/>
            <a:stretch/>
          </p:blipFill>
          <p:spPr>
            <a:xfrm>
              <a:off x="3037680" y="3175200"/>
              <a:ext cx="211320" cy="1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9" name="" descr=""/>
            <p:cNvPicPr/>
            <p:nvPr/>
          </p:nvPicPr>
          <p:blipFill>
            <a:blip r:embed="rId4"/>
            <a:stretch/>
          </p:blipFill>
          <p:spPr>
            <a:xfrm>
              <a:off x="4093920" y="2725560"/>
              <a:ext cx="211320" cy="1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0" name="" descr=""/>
            <p:cNvPicPr/>
            <p:nvPr/>
          </p:nvPicPr>
          <p:blipFill>
            <a:blip r:embed="rId5"/>
            <a:stretch/>
          </p:blipFill>
          <p:spPr>
            <a:xfrm>
              <a:off x="2034360" y="3275280"/>
              <a:ext cx="211320" cy="1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" name="" descr=""/>
            <p:cNvPicPr/>
            <p:nvPr/>
          </p:nvPicPr>
          <p:blipFill>
            <a:blip r:embed="rId6"/>
            <a:stretch/>
          </p:blipFill>
          <p:spPr>
            <a:xfrm>
              <a:off x="2509560" y="2825640"/>
              <a:ext cx="211320" cy="1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" name="" descr=""/>
            <p:cNvPicPr/>
            <p:nvPr/>
          </p:nvPicPr>
          <p:blipFill>
            <a:blip r:embed="rId7"/>
            <a:stretch/>
          </p:blipFill>
          <p:spPr>
            <a:xfrm>
              <a:off x="3301920" y="3624840"/>
              <a:ext cx="211320" cy="1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3" name="" descr=""/>
            <p:cNvPicPr/>
            <p:nvPr/>
          </p:nvPicPr>
          <p:blipFill>
            <a:blip r:embed="rId8"/>
            <a:stretch/>
          </p:blipFill>
          <p:spPr>
            <a:xfrm>
              <a:off x="1559160" y="3674880"/>
              <a:ext cx="211320" cy="1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" descr=""/>
            <p:cNvPicPr/>
            <p:nvPr/>
          </p:nvPicPr>
          <p:blipFill>
            <a:blip r:embed="rId9"/>
            <a:stretch/>
          </p:blipFill>
          <p:spPr>
            <a:xfrm>
              <a:off x="2351160" y="3825000"/>
              <a:ext cx="211320" cy="1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" name="" descr=""/>
            <p:cNvPicPr/>
            <p:nvPr/>
          </p:nvPicPr>
          <p:blipFill>
            <a:blip r:embed="rId10"/>
            <a:stretch/>
          </p:blipFill>
          <p:spPr>
            <a:xfrm>
              <a:off x="4041360" y="3075480"/>
              <a:ext cx="210960" cy="1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6" name="" descr=""/>
            <p:cNvPicPr/>
            <p:nvPr/>
          </p:nvPicPr>
          <p:blipFill>
            <a:blip r:embed="rId11"/>
            <a:stretch/>
          </p:blipFill>
          <p:spPr>
            <a:xfrm>
              <a:off x="4410720" y="2275920"/>
              <a:ext cx="211320" cy="1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" descr=""/>
            <p:cNvPicPr/>
            <p:nvPr/>
          </p:nvPicPr>
          <p:blipFill>
            <a:blip r:embed="rId12"/>
            <a:stretch/>
          </p:blipFill>
          <p:spPr>
            <a:xfrm>
              <a:off x="4516560" y="3674880"/>
              <a:ext cx="210960" cy="1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" descr=""/>
            <p:cNvPicPr/>
            <p:nvPr/>
          </p:nvPicPr>
          <p:blipFill>
            <a:blip r:embed="rId13"/>
            <a:stretch/>
          </p:blipFill>
          <p:spPr>
            <a:xfrm>
              <a:off x="4199760" y="4024800"/>
              <a:ext cx="210960" cy="1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" descr=""/>
            <p:cNvPicPr/>
            <p:nvPr/>
          </p:nvPicPr>
          <p:blipFill>
            <a:blip r:embed="rId14"/>
            <a:stretch/>
          </p:blipFill>
          <p:spPr>
            <a:xfrm>
              <a:off x="5308560" y="3325320"/>
              <a:ext cx="210960" cy="1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" descr=""/>
            <p:cNvPicPr/>
            <p:nvPr/>
          </p:nvPicPr>
          <p:blipFill>
            <a:blip r:embed="rId15"/>
            <a:stretch/>
          </p:blipFill>
          <p:spPr>
            <a:xfrm>
              <a:off x="5044680" y="2675880"/>
              <a:ext cx="211320" cy="13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1665000" y="3006720"/>
              <a:ext cx="0" cy="64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823400" y="3006720"/>
              <a:ext cx="263880" cy="24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45680" y="3406320"/>
              <a:ext cx="158400" cy="44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>
              <a:off x="1717560" y="3406320"/>
              <a:ext cx="369720" cy="24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>
              <a:off x="2192760" y="2956680"/>
              <a:ext cx="369720" cy="29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2667960" y="2456640"/>
              <a:ext cx="158400" cy="34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720880" y="2956680"/>
              <a:ext cx="369720" cy="19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249000" y="3306600"/>
              <a:ext cx="105480" cy="29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4146840" y="2856960"/>
              <a:ext cx="52560" cy="19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4199760" y="2406600"/>
              <a:ext cx="263880" cy="34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622040" y="2406960"/>
              <a:ext cx="475200" cy="24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150160" y="2806920"/>
              <a:ext cx="210960" cy="49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4674960" y="3456000"/>
              <a:ext cx="686160" cy="24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>
              <a:off x="4358160" y="3806280"/>
              <a:ext cx="210960" cy="24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3301920" y="3206520"/>
              <a:ext cx="739440" cy="4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3407760" y="3206520"/>
              <a:ext cx="686160" cy="39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513240" y="3706200"/>
              <a:ext cx="686520" cy="29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8" name="" descr=""/>
            <p:cNvPicPr/>
            <p:nvPr/>
          </p:nvPicPr>
          <p:blipFill>
            <a:blip r:embed="rId16"/>
            <a:stretch/>
          </p:blipFill>
          <p:spPr>
            <a:xfrm>
              <a:off x="1295280" y="2057400"/>
              <a:ext cx="631440" cy="58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"/>
            <p:cNvSpPr/>
            <p:nvPr/>
          </p:nvSpPr>
          <p:spPr>
            <a:xfrm>
              <a:off x="1981800" y="2356920"/>
              <a:ext cx="79200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717560" y="2656800"/>
              <a:ext cx="52560" cy="24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1295280" y="2214720"/>
            <a:ext cx="4281120" cy="2052000"/>
            <a:chOff x="1295280" y="2214720"/>
            <a:chExt cx="4281120" cy="2052000"/>
          </a:xfrm>
        </p:grpSpPr>
        <p:sp>
          <p:nvSpPr>
            <p:cNvPr id="282" name=""/>
            <p:cNvSpPr/>
            <p:nvPr/>
          </p:nvSpPr>
          <p:spPr>
            <a:xfrm>
              <a:off x="1295280" y="3240720"/>
              <a:ext cx="1427040" cy="102600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722320" y="3240720"/>
              <a:ext cx="1427040" cy="102600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149720" y="3240720"/>
              <a:ext cx="1426680" cy="102600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149720" y="2214720"/>
              <a:ext cx="1426680" cy="102600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722320" y="2214720"/>
              <a:ext cx="1427040" cy="102600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295280" y="2214720"/>
              <a:ext cx="1427040" cy="102600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1467000" y="2214720"/>
            <a:ext cx="3823920" cy="2035080"/>
            <a:chOff x="1467000" y="2214720"/>
            <a:chExt cx="3823920" cy="2035080"/>
          </a:xfrm>
        </p:grpSpPr>
        <p:pic>
          <p:nvPicPr>
            <p:cNvPr id="289" name="" descr=""/>
            <p:cNvPicPr/>
            <p:nvPr/>
          </p:nvPicPr>
          <p:blipFill>
            <a:blip r:embed="rId17"/>
            <a:stretch/>
          </p:blipFill>
          <p:spPr>
            <a:xfrm>
              <a:off x="1809360" y="2688120"/>
              <a:ext cx="289800" cy="40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" descr=""/>
            <p:cNvPicPr/>
            <p:nvPr/>
          </p:nvPicPr>
          <p:blipFill>
            <a:blip r:embed="rId18"/>
            <a:stretch/>
          </p:blipFill>
          <p:spPr>
            <a:xfrm>
              <a:off x="3121920" y="2266920"/>
              <a:ext cx="289800" cy="40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1" name="" descr=""/>
            <p:cNvPicPr/>
            <p:nvPr/>
          </p:nvPicPr>
          <p:blipFill>
            <a:blip r:embed="rId19"/>
            <a:stretch/>
          </p:blipFill>
          <p:spPr>
            <a:xfrm>
              <a:off x="4720320" y="2477520"/>
              <a:ext cx="289800" cy="40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" name="" descr=""/>
            <p:cNvPicPr/>
            <p:nvPr/>
          </p:nvPicPr>
          <p:blipFill>
            <a:blip r:embed="rId20"/>
            <a:stretch/>
          </p:blipFill>
          <p:spPr>
            <a:xfrm>
              <a:off x="4720320" y="3793680"/>
              <a:ext cx="289800" cy="40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3" name="" descr=""/>
            <p:cNvPicPr/>
            <p:nvPr/>
          </p:nvPicPr>
          <p:blipFill>
            <a:blip r:embed="rId21"/>
            <a:stretch/>
          </p:blipFill>
          <p:spPr>
            <a:xfrm>
              <a:off x="1580760" y="3846240"/>
              <a:ext cx="289800" cy="40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4" name="" descr=""/>
            <p:cNvPicPr/>
            <p:nvPr/>
          </p:nvPicPr>
          <p:blipFill>
            <a:blip r:embed="rId22"/>
            <a:stretch/>
          </p:blipFill>
          <p:spPr>
            <a:xfrm>
              <a:off x="3121920" y="3740760"/>
              <a:ext cx="289800" cy="40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"/>
            <p:cNvSpPr/>
            <p:nvPr/>
          </p:nvSpPr>
          <p:spPr>
            <a:xfrm>
              <a:off x="1467000" y="3583080"/>
              <a:ext cx="342360" cy="315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236400" y="3530160"/>
              <a:ext cx="342360" cy="315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434840" y="3635640"/>
              <a:ext cx="342360" cy="315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523880" y="2740680"/>
              <a:ext cx="342360" cy="315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22680" y="2214720"/>
              <a:ext cx="342360" cy="315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948560" y="2583000"/>
              <a:ext cx="342360" cy="315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2436840" y="2109960"/>
            <a:ext cx="1968120" cy="1368000"/>
            <a:chOff x="2436840" y="2109960"/>
            <a:chExt cx="1968120" cy="1368000"/>
          </a:xfrm>
        </p:grpSpPr>
        <p:sp>
          <p:nvSpPr>
            <p:cNvPr id="302" name=""/>
            <p:cNvSpPr/>
            <p:nvPr/>
          </p:nvSpPr>
          <p:spPr>
            <a:xfrm>
              <a:off x="3948480" y="2478240"/>
              <a:ext cx="456480" cy="999720"/>
            </a:xfrm>
            <a:prstGeom prst="ellipse">
              <a:avLst/>
            </a:prstGeom>
            <a:noFill/>
            <a:ln w="1908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436840" y="2109960"/>
              <a:ext cx="628200" cy="999720"/>
            </a:xfrm>
            <a:prstGeom prst="ellipse">
              <a:avLst/>
            </a:prstGeom>
            <a:noFill/>
            <a:ln w="1908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5178600" y="3162240"/>
            <a:ext cx="840960" cy="545760"/>
            <a:chOff x="5178600" y="3162240"/>
            <a:chExt cx="840960" cy="545760"/>
          </a:xfrm>
        </p:grpSpPr>
        <p:pic>
          <p:nvPicPr>
            <p:cNvPr id="305" name="" descr=""/>
            <p:cNvPicPr/>
            <p:nvPr/>
          </p:nvPicPr>
          <p:blipFill>
            <a:blip r:embed="rId23"/>
            <a:stretch/>
          </p:blipFill>
          <p:spPr>
            <a:xfrm>
              <a:off x="5577840" y="3214440"/>
              <a:ext cx="441720" cy="49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6" name=""/>
            <p:cNvSpPr/>
            <p:nvPr/>
          </p:nvSpPr>
          <p:spPr>
            <a:xfrm>
              <a:off x="5178600" y="3162240"/>
              <a:ext cx="513360" cy="473760"/>
            </a:xfrm>
            <a:prstGeom prst="ellipse">
              <a:avLst/>
            </a:pr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6691320" y="2286000"/>
            <a:ext cx="1480320" cy="457200"/>
            <a:chOff x="6691320" y="2286000"/>
            <a:chExt cx="1480320" cy="457200"/>
          </a:xfrm>
        </p:grpSpPr>
        <p:sp>
          <p:nvSpPr>
            <p:cNvPr id="308" name=""/>
            <p:cNvSpPr/>
            <p:nvPr/>
          </p:nvSpPr>
          <p:spPr>
            <a:xfrm>
              <a:off x="6691320" y="2286000"/>
              <a:ext cx="457200" cy="45720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119360" y="2317680"/>
              <a:ext cx="1052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roup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6691320" y="3009960"/>
            <a:ext cx="1479960" cy="457200"/>
            <a:chOff x="6691320" y="3009960"/>
            <a:chExt cx="1479960" cy="457200"/>
          </a:xfrm>
        </p:grpSpPr>
        <p:sp>
          <p:nvSpPr>
            <p:cNvPr id="311" name=""/>
            <p:cNvSpPr/>
            <p:nvPr/>
          </p:nvSpPr>
          <p:spPr>
            <a:xfrm>
              <a:off x="6691320" y="3009960"/>
              <a:ext cx="456840" cy="457200"/>
            </a:xfrm>
            <a:prstGeom prst="ellipse">
              <a:avLst/>
            </a:prstGeom>
            <a:noFill/>
            <a:ln w="1908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119000" y="3041640"/>
              <a:ext cx="1052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roup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6691320" y="3733920"/>
            <a:ext cx="1479960" cy="457200"/>
            <a:chOff x="6691320" y="3733920"/>
            <a:chExt cx="1479960" cy="457200"/>
          </a:xfrm>
        </p:grpSpPr>
        <p:sp>
          <p:nvSpPr>
            <p:cNvPr id="314" name=""/>
            <p:cNvSpPr/>
            <p:nvPr/>
          </p:nvSpPr>
          <p:spPr>
            <a:xfrm>
              <a:off x="6691320" y="3733920"/>
              <a:ext cx="456840" cy="457200"/>
            </a:xfrm>
            <a:prstGeom prst="ellipse">
              <a:avLst/>
            </a:pr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119000" y="3765600"/>
              <a:ext cx="1052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roup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80880" y="4571640"/>
            <a:ext cx="83822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s may overl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members may arbitrari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s can be statically formed and dynamically adju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2.83137E-006 C -0.02622 0.00879 -0.05209 0.01781 -0.06962 0.03054 C -0.08681 0.04372 -0.07639 0.08004 -0.10365 0.07819 C -0.13056 0.07657 -0.20591 0.04048 -0.23177 0.02175 C -0.25782 0.00255 -0.24532 -0.01989 -0.25868 -0.03516 C -0.27223 -0.05066 -0.30348 -0.06454 -0.31233 -0.07009 E">
                                      <p:cBhvr>
                                        <p:cTn id="52" dur="5000" fill="hold"/>
                                        <p:tgtEl>
                                          <p:spTgt spid="3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7" name=""/>
          <p:cNvGrpSpPr/>
          <p:nvPr/>
        </p:nvGrpSpPr>
        <p:grpSpPr>
          <a:xfrm>
            <a:off x="2271600" y="1376280"/>
            <a:ext cx="4281120" cy="2052720"/>
            <a:chOff x="2271600" y="1376280"/>
            <a:chExt cx="4281120" cy="2052720"/>
          </a:xfrm>
        </p:grpSpPr>
        <p:sp>
          <p:nvSpPr>
            <p:cNvPr id="318" name=""/>
            <p:cNvSpPr/>
            <p:nvPr/>
          </p:nvSpPr>
          <p:spPr>
            <a:xfrm>
              <a:off x="2271600" y="2402640"/>
              <a:ext cx="1427040" cy="102636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698640" y="2402640"/>
              <a:ext cx="1427040" cy="102636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126040" y="2402640"/>
              <a:ext cx="1426680" cy="102636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126040" y="1376280"/>
              <a:ext cx="1426680" cy="102636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698640" y="1376280"/>
              <a:ext cx="1427040" cy="102636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271600" y="1376280"/>
              <a:ext cx="1427040" cy="102636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4572000" y="2743200"/>
            <a:ext cx="447840" cy="60948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ouping Oper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2133720" y="1219320"/>
            <a:ext cx="4224240" cy="2104560"/>
            <a:chOff x="2133720" y="1219320"/>
            <a:chExt cx="4224240" cy="2104560"/>
          </a:xfrm>
        </p:grpSpPr>
        <p:pic>
          <p:nvPicPr>
            <p:cNvPr id="327" name="" descr=""/>
            <p:cNvPicPr/>
            <p:nvPr/>
          </p:nvPicPr>
          <p:blipFill>
            <a:blip r:embed="rId2"/>
            <a:stretch/>
          </p:blipFill>
          <p:spPr>
            <a:xfrm>
              <a:off x="2450520" y="2037240"/>
              <a:ext cx="210960" cy="1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8" name="" descr=""/>
            <p:cNvPicPr/>
            <p:nvPr/>
          </p:nvPicPr>
          <p:blipFill>
            <a:blip r:embed="rId3"/>
            <a:stretch/>
          </p:blipFill>
          <p:spPr>
            <a:xfrm>
              <a:off x="3612240" y="1487880"/>
              <a:ext cx="210960" cy="1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9" name="" descr=""/>
            <p:cNvPicPr/>
            <p:nvPr/>
          </p:nvPicPr>
          <p:blipFill>
            <a:blip r:embed="rId4"/>
            <a:stretch/>
          </p:blipFill>
          <p:spPr>
            <a:xfrm>
              <a:off x="3876120" y="2337120"/>
              <a:ext cx="210960" cy="1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0" name="" descr=""/>
            <p:cNvPicPr/>
            <p:nvPr/>
          </p:nvPicPr>
          <p:blipFill>
            <a:blip r:embed="rId5"/>
            <a:stretch/>
          </p:blipFill>
          <p:spPr>
            <a:xfrm>
              <a:off x="4932000" y="1887480"/>
              <a:ext cx="210960" cy="1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1" name="" descr=""/>
            <p:cNvPicPr/>
            <p:nvPr/>
          </p:nvPicPr>
          <p:blipFill>
            <a:blip r:embed="rId6"/>
            <a:stretch/>
          </p:blipFill>
          <p:spPr>
            <a:xfrm>
              <a:off x="2872800" y="2437200"/>
              <a:ext cx="210960" cy="1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2" name="" descr=""/>
            <p:cNvPicPr/>
            <p:nvPr/>
          </p:nvPicPr>
          <p:blipFill>
            <a:blip r:embed="rId7"/>
            <a:stretch/>
          </p:blipFill>
          <p:spPr>
            <a:xfrm>
              <a:off x="3348000" y="1987560"/>
              <a:ext cx="210960" cy="1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3" name="" descr=""/>
            <p:cNvPicPr/>
            <p:nvPr/>
          </p:nvPicPr>
          <p:blipFill>
            <a:blip r:embed="rId8"/>
            <a:stretch/>
          </p:blipFill>
          <p:spPr>
            <a:xfrm>
              <a:off x="4140000" y="2786760"/>
              <a:ext cx="210960" cy="1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4" name="" descr=""/>
            <p:cNvPicPr/>
            <p:nvPr/>
          </p:nvPicPr>
          <p:blipFill>
            <a:blip r:embed="rId9"/>
            <a:stretch/>
          </p:blipFill>
          <p:spPr>
            <a:xfrm>
              <a:off x="2397600" y="2836800"/>
              <a:ext cx="210960" cy="1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5" name="" descr=""/>
            <p:cNvPicPr/>
            <p:nvPr/>
          </p:nvPicPr>
          <p:blipFill>
            <a:blip r:embed="rId10"/>
            <a:stretch/>
          </p:blipFill>
          <p:spPr>
            <a:xfrm>
              <a:off x="3189600" y="2986920"/>
              <a:ext cx="210960" cy="1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6" name="" descr=""/>
            <p:cNvPicPr/>
            <p:nvPr/>
          </p:nvPicPr>
          <p:blipFill>
            <a:blip r:embed="rId11"/>
            <a:stretch/>
          </p:blipFill>
          <p:spPr>
            <a:xfrm>
              <a:off x="4879440" y="2237400"/>
              <a:ext cx="210960" cy="1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7" name="" descr=""/>
            <p:cNvPicPr/>
            <p:nvPr/>
          </p:nvPicPr>
          <p:blipFill>
            <a:blip r:embed="rId12"/>
            <a:stretch/>
          </p:blipFill>
          <p:spPr>
            <a:xfrm>
              <a:off x="5248800" y="1437840"/>
              <a:ext cx="210960" cy="1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8" name="" descr=""/>
            <p:cNvPicPr/>
            <p:nvPr/>
          </p:nvPicPr>
          <p:blipFill>
            <a:blip r:embed="rId13"/>
            <a:stretch/>
          </p:blipFill>
          <p:spPr>
            <a:xfrm>
              <a:off x="5354640" y="2836800"/>
              <a:ext cx="210960" cy="1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9" name="" descr=""/>
            <p:cNvPicPr/>
            <p:nvPr/>
          </p:nvPicPr>
          <p:blipFill>
            <a:blip r:embed="rId14"/>
            <a:stretch/>
          </p:blipFill>
          <p:spPr>
            <a:xfrm>
              <a:off x="5037840" y="3186720"/>
              <a:ext cx="210960" cy="1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0" name="" descr=""/>
            <p:cNvPicPr/>
            <p:nvPr/>
          </p:nvPicPr>
          <p:blipFill>
            <a:blip r:embed="rId15"/>
            <a:stretch/>
          </p:blipFill>
          <p:spPr>
            <a:xfrm>
              <a:off x="6147000" y="2487240"/>
              <a:ext cx="210960" cy="1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1" name="" descr=""/>
            <p:cNvPicPr/>
            <p:nvPr/>
          </p:nvPicPr>
          <p:blipFill>
            <a:blip r:embed="rId16"/>
            <a:stretch/>
          </p:blipFill>
          <p:spPr>
            <a:xfrm>
              <a:off x="5882760" y="1837800"/>
              <a:ext cx="210960" cy="13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2" name=""/>
            <p:cNvSpPr/>
            <p:nvPr/>
          </p:nvSpPr>
          <p:spPr>
            <a:xfrm>
              <a:off x="2503440" y="2168640"/>
              <a:ext cx="0" cy="64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661840" y="2168640"/>
              <a:ext cx="263880" cy="24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084120" y="2568240"/>
              <a:ext cx="158400" cy="44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 flipV="1">
              <a:off x="2556000" y="2568240"/>
              <a:ext cx="369720" cy="24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3031200" y="2118600"/>
              <a:ext cx="369720" cy="29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 flipV="1">
              <a:off x="3506400" y="1618560"/>
              <a:ext cx="158400" cy="34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559320" y="2118600"/>
              <a:ext cx="369720" cy="19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087440" y="2468520"/>
              <a:ext cx="105480" cy="29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 flipH="1">
              <a:off x="4984920" y="2018880"/>
              <a:ext cx="52560" cy="19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5037840" y="1568520"/>
              <a:ext cx="263880" cy="34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460120" y="1568880"/>
              <a:ext cx="475200" cy="24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988240" y="1968840"/>
              <a:ext cx="210960" cy="49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5513040" y="2617920"/>
              <a:ext cx="686160" cy="24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>
              <a:off x="5196240" y="2968200"/>
              <a:ext cx="210960" cy="24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 flipV="1">
              <a:off x="4140000" y="2368440"/>
              <a:ext cx="739440" cy="4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4245840" y="2368440"/>
              <a:ext cx="686160" cy="39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351320" y="2868120"/>
              <a:ext cx="686520" cy="29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9" name="" descr=""/>
            <p:cNvPicPr/>
            <p:nvPr/>
          </p:nvPicPr>
          <p:blipFill>
            <a:blip r:embed="rId17"/>
            <a:stretch/>
          </p:blipFill>
          <p:spPr>
            <a:xfrm>
              <a:off x="2133720" y="1219320"/>
              <a:ext cx="631080" cy="58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0" name=""/>
            <p:cNvSpPr/>
            <p:nvPr/>
          </p:nvSpPr>
          <p:spPr>
            <a:xfrm>
              <a:off x="2820240" y="1518840"/>
              <a:ext cx="79200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556000" y="1818720"/>
              <a:ext cx="52560" cy="24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2305080" y="1376280"/>
            <a:ext cx="3824280" cy="2035080"/>
            <a:chOff x="2305080" y="1376280"/>
            <a:chExt cx="3824280" cy="2035080"/>
          </a:xfrm>
        </p:grpSpPr>
        <p:pic>
          <p:nvPicPr>
            <p:cNvPr id="363" name="" descr=""/>
            <p:cNvPicPr/>
            <p:nvPr/>
          </p:nvPicPr>
          <p:blipFill>
            <a:blip r:embed="rId18"/>
            <a:stretch/>
          </p:blipFill>
          <p:spPr>
            <a:xfrm>
              <a:off x="2647800" y="1849320"/>
              <a:ext cx="290520" cy="40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4" name="" descr=""/>
            <p:cNvPicPr/>
            <p:nvPr/>
          </p:nvPicPr>
          <p:blipFill>
            <a:blip r:embed="rId19"/>
            <a:stretch/>
          </p:blipFill>
          <p:spPr>
            <a:xfrm>
              <a:off x="3960720" y="1428840"/>
              <a:ext cx="289080" cy="40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5" name="" descr=""/>
            <p:cNvPicPr/>
            <p:nvPr/>
          </p:nvPicPr>
          <p:blipFill>
            <a:blip r:embed="rId20"/>
            <a:stretch/>
          </p:blipFill>
          <p:spPr>
            <a:xfrm>
              <a:off x="5557680" y="1639800"/>
              <a:ext cx="290520" cy="40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6" name="" descr=""/>
            <p:cNvPicPr/>
            <p:nvPr/>
          </p:nvPicPr>
          <p:blipFill>
            <a:blip r:embed="rId21"/>
            <a:stretch/>
          </p:blipFill>
          <p:spPr>
            <a:xfrm>
              <a:off x="5557680" y="2955960"/>
              <a:ext cx="290520" cy="40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7" name="" descr=""/>
            <p:cNvPicPr/>
            <p:nvPr/>
          </p:nvPicPr>
          <p:blipFill>
            <a:blip r:embed="rId22"/>
            <a:stretch/>
          </p:blipFill>
          <p:spPr>
            <a:xfrm>
              <a:off x="2419200" y="3008160"/>
              <a:ext cx="290520" cy="40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" descr=""/>
            <p:cNvPicPr/>
            <p:nvPr/>
          </p:nvPicPr>
          <p:blipFill>
            <a:blip r:embed="rId23"/>
            <a:stretch/>
          </p:blipFill>
          <p:spPr>
            <a:xfrm>
              <a:off x="3960720" y="2903400"/>
              <a:ext cx="289080" cy="40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9" name=""/>
            <p:cNvSpPr/>
            <p:nvPr/>
          </p:nvSpPr>
          <p:spPr>
            <a:xfrm>
              <a:off x="2305080" y="2744640"/>
              <a:ext cx="342720" cy="3160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075200" y="2692440"/>
              <a:ext cx="341280" cy="315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273640" y="2797200"/>
              <a:ext cx="341280" cy="315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362320" y="1903320"/>
              <a:ext cx="342720" cy="3142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60760" y="1376280"/>
              <a:ext cx="343080" cy="3160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786280" y="1744560"/>
              <a:ext cx="343080" cy="3160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09480" y="3657240"/>
            <a:ext cx="74678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lly, all nodes belong to group 0 onl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 group 0 code for grouping operation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 join a grou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g 1: Group 0 randomly choose 1 node from every room to join group 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g 2: Group 0 continuously senses temp; join group 2 if temp &gt; 10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g 3: Group 2 continuously senses temp; leave group 2 if temp &lt; 8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fter joining a grou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ownload app. code on-deman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xecute the code when triggere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76" name=""/>
          <p:cNvGrpSpPr/>
          <p:nvPr/>
        </p:nvGrpSpPr>
        <p:grpSpPr>
          <a:xfrm>
            <a:off x="3954600" y="2666880"/>
            <a:ext cx="1890720" cy="941400"/>
            <a:chOff x="3954600" y="2666880"/>
            <a:chExt cx="1890720" cy="941400"/>
          </a:xfrm>
        </p:grpSpPr>
        <p:pic>
          <p:nvPicPr>
            <p:cNvPr id="377" name="" descr=""/>
            <p:cNvPicPr/>
            <p:nvPr/>
          </p:nvPicPr>
          <p:blipFill>
            <a:blip r:embed="rId24"/>
            <a:stretch/>
          </p:blipFill>
          <p:spPr>
            <a:xfrm>
              <a:off x="5173560" y="3205080"/>
              <a:ext cx="289080" cy="40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8" name="" descr=""/>
            <p:cNvPicPr/>
            <p:nvPr/>
          </p:nvPicPr>
          <p:blipFill>
            <a:blip r:embed="rId25"/>
            <a:stretch/>
          </p:blipFill>
          <p:spPr>
            <a:xfrm>
              <a:off x="5554800" y="2954160"/>
              <a:ext cx="290520" cy="40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9" name="" descr=""/>
            <p:cNvPicPr/>
            <p:nvPr/>
          </p:nvPicPr>
          <p:blipFill>
            <a:blip r:embed="rId26"/>
            <a:stretch/>
          </p:blipFill>
          <p:spPr>
            <a:xfrm>
              <a:off x="3954600" y="2878200"/>
              <a:ext cx="288720" cy="40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0" name=""/>
            <p:cNvSpPr/>
            <p:nvPr/>
          </p:nvSpPr>
          <p:spPr>
            <a:xfrm>
              <a:off x="4068720" y="2666880"/>
              <a:ext cx="341280" cy="3160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270400" y="2795760"/>
              <a:ext cx="341280" cy="315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944960" y="3129120"/>
              <a:ext cx="343080" cy="315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914400" y="1295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cking a shadow using group 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"/>
          <p:cNvSpPr/>
          <p:nvPr/>
        </p:nvSpPr>
        <p:spPr>
          <a:xfrm>
            <a:off x="1905120" y="2073240"/>
            <a:ext cx="2057400" cy="201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oup 0 cod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imer contex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= ligh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(a &lt; 1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join_group(1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 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4952880" y="2073240"/>
            <a:ext cx="297180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oup 1 cod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imer contex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= ligh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(a &lt; 12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ings []= 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(sizeof(readings) = 1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d(readings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ear(readings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 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d(readings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leave_group(group()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 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305000" y="3189240"/>
            <a:ext cx="692100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We can do mo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data aggregation at cluster h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forming group 2 around group 1 to get the contour of the sha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tribu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>
            <a:off x="1523880" y="1612800"/>
            <a:ext cx="1295640" cy="887400"/>
          </a:xfrm>
          <a:prstGeom prst="rect">
            <a:avLst/>
          </a:prstGeom>
          <a:ln w="0">
            <a:noFill/>
          </a:ln>
        </p:spPr>
      </p:pic>
      <p:grpSp>
        <p:nvGrpSpPr>
          <p:cNvPr id="390" name=""/>
          <p:cNvGrpSpPr/>
          <p:nvPr/>
        </p:nvGrpSpPr>
        <p:grpSpPr>
          <a:xfrm>
            <a:off x="1523880" y="3139920"/>
            <a:ext cx="1371240" cy="653760"/>
            <a:chOff x="1523880" y="3139920"/>
            <a:chExt cx="1371240" cy="653760"/>
          </a:xfrm>
        </p:grpSpPr>
        <p:grpSp>
          <p:nvGrpSpPr>
            <p:cNvPr id="391" name=""/>
            <p:cNvGrpSpPr/>
            <p:nvPr/>
          </p:nvGrpSpPr>
          <p:grpSpPr>
            <a:xfrm>
              <a:off x="1599840" y="3139920"/>
              <a:ext cx="1295280" cy="609480"/>
              <a:chOff x="1599840" y="3139920"/>
              <a:chExt cx="1295280" cy="609480"/>
            </a:xfrm>
          </p:grpSpPr>
          <p:pic>
            <p:nvPicPr>
              <p:cNvPr id="39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696680" y="3376800"/>
                <a:ext cx="64800" cy="39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9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053440" y="3217680"/>
                <a:ext cx="64440" cy="39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9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2134080" y="3463560"/>
                <a:ext cx="64800" cy="39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9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2458080" y="3333240"/>
                <a:ext cx="64800" cy="39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9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1826280" y="3492720"/>
                <a:ext cx="64800" cy="39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9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1972080" y="3362400"/>
                <a:ext cx="64800" cy="39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98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2215080" y="3593880"/>
                <a:ext cx="64800" cy="39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99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1680480" y="3608280"/>
                <a:ext cx="64800" cy="39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0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1923480" y="3651840"/>
                <a:ext cx="64800" cy="39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1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441880" y="3434760"/>
                <a:ext cx="64440" cy="39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2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2555280" y="3202920"/>
                <a:ext cx="64800" cy="39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3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2587680" y="3608280"/>
                <a:ext cx="64440" cy="39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4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2490480" y="3709800"/>
                <a:ext cx="64440" cy="39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5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2830680" y="3507120"/>
                <a:ext cx="64440" cy="39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6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2749680" y="3318840"/>
                <a:ext cx="64800" cy="39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7" name=""/>
              <p:cNvSpPr/>
              <p:nvPr/>
            </p:nvSpPr>
            <p:spPr>
              <a:xfrm>
                <a:off x="1713240" y="3414600"/>
                <a:ext cx="0" cy="187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1761840" y="3414600"/>
                <a:ext cx="80640" cy="7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1891080" y="3530520"/>
                <a:ext cx="48240" cy="129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flipV="1">
                <a:off x="1729080" y="3530160"/>
                <a:ext cx="113400" cy="7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flipV="1">
                <a:off x="1874880" y="3399840"/>
                <a:ext cx="113400" cy="86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 flipV="1">
                <a:off x="2020680" y="3255120"/>
                <a:ext cx="48240" cy="10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2036880" y="3400200"/>
                <a:ext cx="113400" cy="57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2199240" y="3501720"/>
                <a:ext cx="32040" cy="86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 flipH="1">
                <a:off x="2473920" y="3371400"/>
                <a:ext cx="16200" cy="57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flipV="1">
                <a:off x="2490480" y="3240720"/>
                <a:ext cx="80640" cy="10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2620080" y="3241080"/>
                <a:ext cx="145440" cy="7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2782080" y="3357000"/>
                <a:ext cx="64440" cy="14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 flipV="1">
                <a:off x="2636280" y="3544920"/>
                <a:ext cx="210240" cy="7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 flipH="1">
                <a:off x="2538720" y="3646440"/>
                <a:ext cx="64440" cy="7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flipV="1">
                <a:off x="2215080" y="3472560"/>
                <a:ext cx="226800" cy="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flipV="1">
                <a:off x="2247840" y="3472200"/>
                <a:ext cx="210240" cy="115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2279880" y="3617280"/>
                <a:ext cx="210600" cy="86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24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1599840" y="3139920"/>
                <a:ext cx="193680" cy="169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5" name=""/>
              <p:cNvSpPr/>
              <p:nvPr/>
            </p:nvSpPr>
            <p:spPr>
              <a:xfrm>
                <a:off x="1810440" y="3226680"/>
                <a:ext cx="242640" cy="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1729080" y="3313440"/>
                <a:ext cx="16200" cy="7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7" name=""/>
            <p:cNvSpPr/>
            <p:nvPr/>
          </p:nvSpPr>
          <p:spPr>
            <a:xfrm>
              <a:off x="1523880" y="3444480"/>
              <a:ext cx="609480" cy="304920"/>
            </a:xfrm>
            <a:prstGeom prst="ellipse">
              <a:avLst/>
            </a:prstGeom>
            <a:noFill/>
            <a:ln w="1260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828440" y="3215880"/>
              <a:ext cx="685800" cy="38124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61960" y="3139920"/>
              <a:ext cx="304920" cy="228600"/>
            </a:xfrm>
            <a:prstGeom prst="ellipse">
              <a:avLst/>
            </a:prstGeom>
            <a:noFill/>
            <a:ln w="1260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446200" y="3565080"/>
              <a:ext cx="228600" cy="228600"/>
            </a:xfrm>
            <a:prstGeom prst="ellipse">
              <a:avLst/>
            </a:prstGeom>
            <a:noFill/>
            <a:ln w="1260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048120" y="1600200"/>
            <a:ext cx="5867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-level virtual mach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 host and execute concurrent app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inyScript extension for grouping oper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2" name=""/>
          <p:cNvSpPr/>
          <p:nvPr/>
        </p:nvSpPr>
        <p:spPr>
          <a:xfrm>
            <a:off x="3581280" y="2743200"/>
            <a:ext cx="4572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048120" y="2895480"/>
            <a:ext cx="4952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ystem-level dynamic grou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lexible, on-the-fly app. deploy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lective and reactive code dis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048120" y="4419720"/>
            <a:ext cx="53337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oup-differentiated code dissem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tive ads. + passive dissem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zy forwar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gressive floo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ndomized cac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990720" y="4784760"/>
            <a:ext cx="1904400" cy="1020600"/>
            <a:chOff x="990720" y="4784760"/>
            <a:chExt cx="1904400" cy="1020600"/>
          </a:xfrm>
        </p:grpSpPr>
        <p:grpSp>
          <p:nvGrpSpPr>
            <p:cNvPr id="436" name=""/>
            <p:cNvGrpSpPr/>
            <p:nvPr/>
          </p:nvGrpSpPr>
          <p:grpSpPr>
            <a:xfrm>
              <a:off x="990720" y="5043600"/>
              <a:ext cx="1904400" cy="761760"/>
              <a:chOff x="990720" y="5043600"/>
              <a:chExt cx="1904400" cy="761760"/>
            </a:xfrm>
          </p:grpSpPr>
          <p:grpSp>
            <p:nvGrpSpPr>
              <p:cNvPr id="437" name=""/>
              <p:cNvGrpSpPr/>
              <p:nvPr/>
            </p:nvGrpSpPr>
            <p:grpSpPr>
              <a:xfrm>
                <a:off x="990720" y="5043600"/>
                <a:ext cx="1904400" cy="761760"/>
                <a:chOff x="990720" y="5043600"/>
                <a:chExt cx="1904400" cy="761760"/>
              </a:xfrm>
            </p:grpSpPr>
            <p:pic>
              <p:nvPicPr>
                <p:cNvPr id="438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1042920" y="5315400"/>
                  <a:ext cx="261360" cy="1861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9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2559600" y="5533200"/>
                  <a:ext cx="261360" cy="185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0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1566000" y="5315400"/>
                  <a:ext cx="261360" cy="1861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1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1932120" y="5533200"/>
                  <a:ext cx="261360" cy="185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2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2245680" y="5261040"/>
                  <a:ext cx="261360" cy="185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43" name=""/>
                <p:cNvSpPr/>
                <p:nvPr/>
              </p:nvSpPr>
              <p:spPr>
                <a:xfrm>
                  <a:off x="1288080" y="5424480"/>
                  <a:ext cx="261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 flipV="1">
                  <a:off x="1827360" y="5369760"/>
                  <a:ext cx="418320" cy="54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 flipH="1">
                  <a:off x="2104920" y="5401440"/>
                  <a:ext cx="156600" cy="163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2507400" y="5424480"/>
                  <a:ext cx="156600" cy="108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1827360" y="5478840"/>
                  <a:ext cx="156600" cy="54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990720" y="5261040"/>
                  <a:ext cx="366120" cy="326520"/>
                </a:xfrm>
                <a:prstGeom prst="ellipse">
                  <a:avLst/>
                </a:prstGeom>
                <a:noFill/>
                <a:ln w="1908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2215440" y="5043600"/>
                  <a:ext cx="679680" cy="761760"/>
                </a:xfrm>
                <a:prstGeom prst="ellipse">
                  <a:avLst/>
                </a:prstGeom>
                <a:noFill/>
                <a:ln w="19080">
                  <a:solidFill>
                    <a:srgbClr val="33cc33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0" name=""/>
              <p:cNvSpPr/>
              <p:nvPr/>
            </p:nvSpPr>
            <p:spPr>
              <a:xfrm>
                <a:off x="1347840" y="5320080"/>
                <a:ext cx="178560" cy="0"/>
              </a:xfrm>
              <a:prstGeom prst="line">
                <a:avLst/>
              </a:prstGeom>
              <a:ln w="9360">
                <a:solidFill>
                  <a:srgbClr val="a50021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883520" y="5320080"/>
                <a:ext cx="297360" cy="0"/>
              </a:xfrm>
              <a:prstGeom prst="line">
                <a:avLst/>
              </a:prstGeom>
              <a:ln w="9360">
                <a:solidFill>
                  <a:srgbClr val="a50021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538360" y="5320080"/>
                <a:ext cx="178560" cy="138600"/>
              </a:xfrm>
              <a:prstGeom prst="line">
                <a:avLst/>
              </a:prstGeom>
              <a:ln w="9360">
                <a:solidFill>
                  <a:srgbClr val="a50021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3" name=""/>
            <p:cNvGrpSpPr/>
            <p:nvPr/>
          </p:nvGrpSpPr>
          <p:grpSpPr>
            <a:xfrm>
              <a:off x="1260360" y="4784760"/>
              <a:ext cx="283680" cy="457200"/>
              <a:chOff x="1260360" y="4784760"/>
              <a:chExt cx="283680" cy="457200"/>
            </a:xfrm>
          </p:grpSpPr>
          <p:sp>
            <p:nvSpPr>
              <p:cNvPr id="454" name=""/>
              <p:cNvSpPr/>
              <p:nvPr/>
            </p:nvSpPr>
            <p:spPr>
              <a:xfrm rot="16200000">
                <a:off x="1173600" y="4871520"/>
                <a:ext cx="457200" cy="283680"/>
              </a:xfrm>
              <a:prstGeom prst="horizontalScroll">
                <a:avLst>
                  <a:gd name="adj" fmla="val 25000"/>
                </a:avLst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1323720" y="4930920"/>
                <a:ext cx="18324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ystem Assump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as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 stores code for all 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-directional 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do NOT as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 node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ization &amp; 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0T20:08:17Z</dcterms:created>
  <dc:creator>a65018</dc:creator>
  <dc:description/>
  <dc:language>en-US</dc:language>
  <cp:lastModifiedBy>a65018</cp:lastModifiedBy>
  <dcterms:modified xsi:type="dcterms:W3CDTF">2006-11-03T16:41:58Z</dcterms:modified>
  <cp:revision>29</cp:revision>
  <dc:subject/>
  <dc:title>Slide 1</dc:title>
</cp:coreProperties>
</file>